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0.wmf" ContentType="image/x-wmf"/>
  <Override PartName="/ppt/media/image6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EDE72-A77F-4312-9E4B-C9568E924B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A000A-CF42-467D-843D-1B5C199535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3875C-9377-48B7-9928-0F74BEED09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96F9A-BF47-475E-B838-3F4C391059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159DD-F796-404E-A474-639D5D3C5F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BD589-B03F-485B-9429-FF3E895E67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35046-0594-411D-9889-57E3C9FC3C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1EC58-BE66-455D-B1BD-1B428A3DB6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361-375D-4E60-86A7-5A65332C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04B-6F30-490B-968F-BE4DC3F8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ED9-3671-4A63-B3F9-CDBFE56B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640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716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1564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640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716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77A-7618-49AA-9387-1C9D3186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675D-5B3C-42F2-B05D-8EBCED9A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1DF0-DDE5-428B-9134-1A107BFE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2ECE-E2E4-4A7D-B034-752DCFDE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5136-4716-4EB3-A69F-52D4D09F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918C-9751-4471-A890-FE77F3D7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58989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F0EA-D4BA-4324-9712-8A906236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49E3-AE6B-4E27-A349-CB9339F9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A26-FBB3-45A5-B113-42733CD0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A925-7A6D-4F2C-AB4F-DAC6018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CD46-B82B-4B5C-A62A-C2ED6DF7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6C5B-FCAD-42BA-AFA9-D12E08A2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86E6-7F13-4683-AA21-76C7E0D6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7640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716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1564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7640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716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F238-6846-42A1-BCB4-076B0211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9B3-8744-46E3-867E-D5849D98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432-F415-472E-A33F-7B1A1FFA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FA9-DB1B-4F08-967F-03368D20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58989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A24-94DA-472F-B318-5A7FEF44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C10-544D-4080-A71C-20CB3CB9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543-8C0B-4BED-9EB9-597220D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040-A252-44AE-A4BE-B3733229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89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7F5DA-823B-4D88-8AF9-61B9819203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93000" y="0"/>
            <a:ext cx="2151000" cy="118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948360" y="71280"/>
            <a:ext cx="21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4400" y="1197000"/>
            <a:ext cx="82296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89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8B3AD38-1CDC-4044-91F0-1876E0FB8F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51640" y="3860640"/>
            <a:ext cx="3492360" cy="1922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357720"/>
            <a:ext cx="8388360" cy="14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406404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LCA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5805360"/>
            <a:ext cx="3264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Laboratório de Computação de Alto Desempen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DI/UF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4920" y="415800"/>
            <a:ext cx="806400" cy="806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971640" y="3573000"/>
            <a:ext cx="475272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marL="255600" indent="-255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-21204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437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omputing Unified Device Architecture (CUD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A Mass-Produced High Performance Parallel Programming Platform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0000" y="4005000"/>
            <a:ext cx="4896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. Alberto Ferreira De Souz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berto@lcad.inf.ufes.b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8064360" cy="4554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47640" y="6093000"/>
            <a:ext cx="7128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nvidia.com/object/cuda_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is tutorial we wil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scientific, technological and market forces that led to the emergence of CU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ine the architecture of CUDA G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 how to program and execute parallel C+CUD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advances and innovations in hardware and software have enabled exponential increase in the performance of computer systems over the past 40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2637000"/>
            <a:ext cx="7056360" cy="3840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34920" y="6597720"/>
            <a:ext cx="8209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L. Hennessy, D. A. Patterson, “Computer Architecture: A Quantitative Approach, Fourth Edition”, Morgan Kaufmann Publishers, Inc., 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446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ore's law allowed manufacturers to increase processors’ clock frequency by about 1,000 times in the past 25 ye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e ability of dissipating the heat generated by these processors reached physical limi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increase in the clock frequency is now impossible without huge efforts in the cooling of 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blem is known as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Power W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has prevented the increase in the performance of single-processo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4581360"/>
            <a:ext cx="34560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ront: Pentium Overdrive (1993) completed with its cooler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Back: Pentium 4 (2005) cool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1276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ecades the performance of the memory hierarchy has grown less than the performance of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, the latency of memory access is hundreds of times larger than the cycle time of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34920" y="6381720"/>
            <a:ext cx="8209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L. Hennessy, D. A. Patterson, “Computer Architecture: A Quantitative Approach, Third Edition”, Morgan Kaufmann Publishers, Inc.,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547640" y="2637000"/>
            <a:ext cx="7272360" cy="34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more processors on a single IC, the need for memory bandwidth is growing lar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e number of pins of ICs is limited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latency + bandwidth problem is known as </a:t>
            </a:r>
            <a:br>
              <a:rPr sz="2000"/>
            </a:b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 Memory 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4720" y="5877000"/>
            <a:ext cx="80643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thlon 64 FX-70, launched in 2006, has two processing cores that can run only one thread at a time, while the UltraSPARC T1, launched in 2005, has 8 cores that can run 4 threads simultaneously each (32 threads in total). The Athlon 64 FX-70 has 1207 pins, while the UltraSPARC T1, 1933 p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46200" y="3429000"/>
            <a:ext cx="3313080" cy="1849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96040" y="2852640"/>
            <a:ext cx="27050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or architectures capable of executing multiple instructions in parallel, out of order and speculatively also contributed significantly to the increase in processors’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employing more transistors in the processors’ implementation has not resulted in greater exploitation of I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roblem is known as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he ILP W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vid Patterson summariz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wer W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Memory W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LP the W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ick Wall for serial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evidences points to the continued validity of Moore's Law (at least for the next 13 years, according with ITRS0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without visible progress in overcoming the obstacles, the only alternative left to the industry was to implement an increasing number of processors on a single 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uter industry changed its course in 2005, when Intel, following the example of IBM (POWER4) and Sun (Niagara), announced it would develop multi-core x86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core processors take advantage of the available number of transistors to exploit large grain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with multiple processors are among us since the 1960s, but efficient mechanisms for taking advantage large and fine grain parallelism of applications until recently did not ex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context appears CU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lled by demand in the gaming industry, GPUs’ performance increased strong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the larger number of transistors available allowed advances in GPUs’ architecture, which lead to Tesla, which supports CU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34920" y="6597720"/>
            <a:ext cx="8209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NVIDIA, “NVIDIA CUDA Programming Guide 2.0”, NVIDIA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58920" y="2611440"/>
            <a:ext cx="705636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672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ute Unified Device Architecture (CUDA) is a new parallel programming model that allows general purpose high performance parallel programming through a small extension of the C programming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24360" y="1484280"/>
            <a:ext cx="4197240" cy="5040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6912000" y="350028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459280" y="216864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95640" y="278136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9640" y="627372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533700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192720" y="6381720"/>
            <a:ext cx="1295640" cy="287280"/>
            <a:chOff x="6192720" y="6381720"/>
            <a:chExt cx="1295640" cy="287280"/>
          </a:xfrm>
        </p:grpSpPr>
        <p:sp>
          <p:nvSpPr>
            <p:cNvPr id="115" name=""/>
            <p:cNvSpPr/>
            <p:nvPr/>
          </p:nvSpPr>
          <p:spPr>
            <a:xfrm flipV="1">
              <a:off x="6192720" y="6381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488360" y="6381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500720" y="497664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54240" y="5337000"/>
            <a:ext cx="3786120" cy="1440000"/>
            <a:chOff x="1254240" y="5337000"/>
            <a:chExt cx="3786120" cy="1440000"/>
          </a:xfrm>
        </p:grpSpPr>
        <p:grpSp>
          <p:nvGrpSpPr>
            <p:cNvPr id="119" name=""/>
            <p:cNvGrpSpPr/>
            <p:nvPr/>
          </p:nvGrpSpPr>
          <p:grpSpPr>
            <a:xfrm>
              <a:off x="1254240" y="5408640"/>
              <a:ext cx="3209760" cy="1368360"/>
              <a:chOff x="1254240" y="5408640"/>
              <a:chExt cx="3209760" cy="1368360"/>
            </a:xfrm>
          </p:grpSpPr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54240" y="5950080"/>
                <a:ext cx="320976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6200000">
                <a:off x="1550160" y="6055560"/>
                <a:ext cx="216000" cy="652320"/>
              </a:xfrm>
              <a:custGeom>
                <a:avLst/>
                <a:gdLst>
                  <a:gd name="textAreaLeft" fmla="*/ 137880 w 216000"/>
                  <a:gd name="textAreaRight" fmla="*/ 216360 w 216000"/>
                  <a:gd name="textAreaTop" fmla="*/ 31680 h 652320"/>
                  <a:gd name="textAreaBottom" fmla="*/ 620640 h 65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676"/>
                      <a:pt x="10800" y="3351"/>
                    </a:cubicBezTo>
                    <a:lnTo>
                      <a:pt x="10800" y="7449"/>
                    </a:lnTo>
                    <a:cubicBezTo>
                      <a:pt x="10800" y="9125"/>
                      <a:pt x="5400" y="10800"/>
                      <a:pt x="0" y="10800"/>
                    </a:cubicBezTo>
                    <a:cubicBezTo>
                      <a:pt x="5400" y="10800"/>
                      <a:pt x="10800" y="12476"/>
                      <a:pt x="10800" y="14151"/>
                    </a:cubicBezTo>
                    <a:lnTo>
                      <a:pt x="10800" y="18249"/>
                    </a:lnTo>
                    <a:cubicBezTo>
                      <a:pt x="10800" y="19925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50920" y="591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43280" y="591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35280" y="591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6520" y="5408640"/>
                <a:ext cx="7714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258920" y="6558120"/>
                <a:ext cx="828720" cy="2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941560" y="6561000"/>
                <a:ext cx="838440" cy="2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51280" y="5661000"/>
                <a:ext cx="0" cy="28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348000" y="6237360"/>
                <a:ext cx="0" cy="28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500720" y="5337000"/>
              <a:ext cx="539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6804000" y="1736640"/>
            <a:ext cx="5414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19640" y="461628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the name “Compute Unified Device Architecture (CUDA)” comes fro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graphics pipelines consist of separate programmable sta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ex processors, which execute vertex shader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ixel fragment processors, which execute pixel shader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DA enabled GPUs unify the vertex and pixel processors and extend them, enabling high-performance parallel computing applications written in the C+CU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PU performs image synthesis in three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es triangles’ vertices, computing screen positions and attributes such as color and surface ori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each triangle to identify fully and partially covered pixels, called fra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es the fragments using texture sampling, color calculation, visibility, and b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GPU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ic hardware for each 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211640" cy="3071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724360" y="530064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6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xel-fragment processors traditionally outnumber vertex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workloads are not well balanced, leading to in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fication enables dynamic load balancing of varying vertex- and pixel-processing workloads and permit easy introduction of new capabilities b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enerality required of a unified processor allowed the addition of the new GPU parallel-computing cap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211640" cy="3071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724360" y="530064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6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PGPU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eneral-purpose computing by casting problems as graphics rend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 data into images (“texture maps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 algorithms into image synthesis (“rendering passes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CUDA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rue parallel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: fully general data-parallel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: C with minimal yet powerful ext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3640" cy="5122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80000" y="6524640"/>
            <a:ext cx="25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eForce 8800 GPU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able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treaming Processor array (SP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8 independent processing units called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exture/Processor Clusters (TP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P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Multiprocessors (S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8 Streaming-Processor (SP) cores (128 tot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SP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forms all the GPU’s programmable calc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s scalable memory system includes a L2 and external D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terconnection network carries data from/to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/from L2 and external D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967280" y="2852640"/>
            <a:ext cx="3924360" cy="1224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2889360"/>
            <a:ext cx="505080" cy="1152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040360" y="3068640"/>
            <a:ext cx="431640" cy="755640"/>
            <a:chOff x="5040360" y="3068640"/>
            <a:chExt cx="431640" cy="755640"/>
          </a:xfrm>
        </p:grpSpPr>
        <p:sp>
          <p:nvSpPr>
            <p:cNvPr id="211" name=""/>
            <p:cNvSpPr/>
            <p:nvPr/>
          </p:nvSpPr>
          <p:spPr>
            <a:xfrm>
              <a:off x="5040360" y="3068640"/>
              <a:ext cx="216000" cy="75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56360" y="3068640"/>
              <a:ext cx="215640" cy="75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4392720" y="3573360"/>
            <a:ext cx="75564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56000" y="4365720"/>
            <a:ext cx="1079640" cy="9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19640" y="4652640"/>
            <a:ext cx="100800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140360" y="4221000"/>
            <a:ext cx="900000" cy="16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GPU blocks are dedicated t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raphics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ute Work Distribution (CW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lock dispatches Blocks of  Threads to the SP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A provides Thread control and management, and processes work from multiple logical streams simultaneous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P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termines a GPU’s programmable processing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scales from on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a small GPU to eight or mor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P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high performance GP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5543640" y="2349360"/>
            <a:ext cx="1692360" cy="466920"/>
            <a:chOff x="5543640" y="2349360"/>
            <a:chExt cx="1692360" cy="466920"/>
          </a:xfrm>
        </p:grpSpPr>
        <p:sp>
          <p:nvSpPr>
            <p:cNvPr id="222" name=""/>
            <p:cNvSpPr/>
            <p:nvPr/>
          </p:nvSpPr>
          <p:spPr>
            <a:xfrm>
              <a:off x="5543640" y="2421000"/>
              <a:ext cx="612720" cy="395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1640" y="2349360"/>
              <a:ext cx="684360" cy="4669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201080" y="2565360"/>
            <a:ext cx="610920" cy="25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40360" y="2889360"/>
            <a:ext cx="431640" cy="1116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824360" y="1484280"/>
            <a:ext cx="4211640" cy="4016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PC contai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ometry Control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treaming  Multiprocessors Controller (SM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 Multiprocessors (S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exture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 implements external memory load/store, and atomic a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rol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arbitrates the load/store path and the I/O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64000" y="566100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ure/Processor Clusters (T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808280"/>
            <a:ext cx="1405080" cy="217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51640" y="4869000"/>
            <a:ext cx="1405080" cy="468000"/>
          </a:xfrm>
          <a:prstGeom prst="rect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2060640"/>
            <a:ext cx="1405080" cy="1810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451640" y="2276640"/>
            <a:ext cx="1405080" cy="2557440"/>
            <a:chOff x="7451640" y="2276640"/>
            <a:chExt cx="1405080" cy="2557440"/>
          </a:xfrm>
        </p:grpSpPr>
        <p:sp>
          <p:nvSpPr>
            <p:cNvPr id="234" name=""/>
            <p:cNvSpPr/>
            <p:nvPr/>
          </p:nvSpPr>
          <p:spPr>
            <a:xfrm>
              <a:off x="8172360" y="2276640"/>
              <a:ext cx="684360" cy="2557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51640" y="2276640"/>
              <a:ext cx="684360" cy="2557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PC has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ing Multiprocessors (SM)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M consists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Processor (S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pecial Function Units (SF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nstruction Cache </a:t>
            </a:r>
            <a:br>
              <a:rPr sz="1800"/>
            </a:b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(I 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only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nstant Cache (C cach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16-Kbyte read/write </a:t>
            </a:r>
            <a:br>
              <a:rPr sz="1800"/>
            </a:b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hare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ultithreaded Instruction Fetch and Issue Unit (MT Issu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32720" y="2924280"/>
            <a:ext cx="1008000" cy="20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720" y="1916280"/>
            <a:ext cx="1008000" cy="2887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32720" y="5013360"/>
            <a:ext cx="1008000" cy="431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720" y="2241720"/>
            <a:ext cx="1008000" cy="323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32720" y="5481720"/>
            <a:ext cx="1008000" cy="46836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32720" y="2600280"/>
            <a:ext cx="1008000" cy="28908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eaming Processor (SP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res and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 Function Units (SFU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register-based instruction set and executes float, int, and transcendental  operations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SFU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, multiply, multiply-add, minimum, maximum, compare, set predicate, and conversions between int and FP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left, shift right, and logic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, call, return, trap, and barrier synchron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ine, sine, binary exp., binary log., reciprocal, and reciprocal square ro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32720" y="2924280"/>
            <a:ext cx="1008000" cy="20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32720" y="5013360"/>
            <a:ext cx="1008000" cy="431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3640" cy="5122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780000" y="6524640"/>
            <a:ext cx="25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6200" y="4005000"/>
            <a:ext cx="1586160" cy="758520"/>
            <a:chOff x="106200" y="4005000"/>
            <a:chExt cx="1586160" cy="758520"/>
          </a:xfrm>
        </p:grpSpPr>
        <p:sp>
          <p:nvSpPr>
            <p:cNvPr id="137" name=""/>
            <p:cNvSpPr/>
            <p:nvPr/>
          </p:nvSpPr>
          <p:spPr>
            <a:xfrm flipV="1">
              <a:off x="1258920" y="4005000"/>
              <a:ext cx="433440" cy="32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200" y="4184640"/>
              <a:ext cx="1117800" cy="57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8800 has 128 process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ing  Multiprocess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res and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F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access three memory spac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memory for low-latency access to data shared by cooperating Threads in a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and Global memory for per-Thread private, or all-Threads shared data (implemented in external DRAM, not cac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and Texture memory for constant data and textures shared by all Threads (implemented in external DRAM, cac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32720" y="2924280"/>
            <a:ext cx="1008000" cy="20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32720" y="5013360"/>
            <a:ext cx="1008000" cy="431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M’s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T Iss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T Warp instruc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Warp consists of 32 Threads of the same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M schedules and executes multiple Warps of multiple types concurrent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MT Iss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r operates at half clock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each issue cycle, it selects one of 24 Warps (each SM can manage 24x32=768 Threa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ssued Warp executes as 2 sets of 16 Threads over 4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 cores and SFU units execute instructions independently; the Scheduler can keep both fully occup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720" y="2241720"/>
            <a:ext cx="1008000" cy="323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414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a Warp takes 4 cycles to execute, and the Scheduler can issue a Warp every 2 cycles, the Scheduler has spare time to opera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M hardware implements zero-overhead Warp schedu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ps whose next instruction has its operands ready are eligible for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gible Warps are selected for execution on a prioritized scheduling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reads in a Warp execute the same instruction when sel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all Threads of a Warp are independent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537520" y="1233360"/>
            <a:ext cx="3282480" cy="5537160"/>
            <a:chOff x="5537520" y="1233360"/>
            <a:chExt cx="3282480" cy="553716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rcRect l="9766" t="0" r="5065" b="26537"/>
            <a:stretch/>
          </p:blipFill>
          <p:spPr>
            <a:xfrm>
              <a:off x="6243480" y="1233360"/>
              <a:ext cx="2479680" cy="134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7" name=""/>
            <p:cNvGrpSpPr/>
            <p:nvPr/>
          </p:nvGrpSpPr>
          <p:grpSpPr>
            <a:xfrm>
              <a:off x="6145200" y="3773520"/>
              <a:ext cx="2674800" cy="507960"/>
              <a:chOff x="6145200" y="3773520"/>
              <a:chExt cx="2674800" cy="5079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6270480" y="3773520"/>
                <a:ext cx="2425320" cy="507960"/>
                <a:chOff x="6270480" y="3773520"/>
                <a:chExt cx="2425320" cy="5079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2704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4306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592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754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916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078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240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4019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562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724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886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48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210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372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534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69580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6145200" y="384984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5856120" y="3798720"/>
              <a:ext cx="0" cy="292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5200" y="2778120"/>
              <a:ext cx="2674800" cy="576360"/>
            </a:xfrm>
            <a:prstGeom prst="rect">
              <a:avLst/>
            </a:prstGeom>
            <a:solidFill>
              <a:srgbClr val="99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 multithrea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rp schedu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6145200" y="4352760"/>
              <a:ext cx="2674800" cy="507960"/>
              <a:chOff x="6145200" y="4352760"/>
              <a:chExt cx="2674800" cy="50796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6270480" y="4352760"/>
                <a:ext cx="2425320" cy="507960"/>
                <a:chOff x="6270480" y="4352760"/>
                <a:chExt cx="2425320" cy="5079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62704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4306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592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754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916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078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240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4019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562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24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886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048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210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372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534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69580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6145200" y="4417920"/>
                <a:ext cx="2674800" cy="284400"/>
              </a:xfrm>
              <a:prstGeom prst="rect">
                <a:avLst/>
              </a:prstGeom>
              <a:solidFill>
                <a:srgbClr val="00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1 instruction 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145200" y="4933800"/>
              <a:ext cx="2674800" cy="507960"/>
              <a:chOff x="6145200" y="4933800"/>
              <a:chExt cx="2674800" cy="50796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6270480" y="4933800"/>
                <a:ext cx="2425320" cy="507960"/>
                <a:chOff x="6270480" y="4933800"/>
                <a:chExt cx="2425320" cy="507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2704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4306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592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754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916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078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240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4019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562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724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886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048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210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372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534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69580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6145200" y="501336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145200" y="5681520"/>
              <a:ext cx="2674800" cy="507960"/>
              <a:chOff x="6145200" y="5681520"/>
              <a:chExt cx="2674800" cy="50796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6270480" y="5681520"/>
                <a:ext cx="2425320" cy="507960"/>
                <a:chOff x="6270480" y="5681520"/>
                <a:chExt cx="2425320" cy="5079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2704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4306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592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754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16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078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240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4019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562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724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886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048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210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372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534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869580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6145200" y="576396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7483320" y="3360600"/>
              <a:ext cx="0" cy="368280"/>
            </a:xfrm>
            <a:prstGeom prst="line">
              <a:avLst/>
            </a:prstGeom>
            <a:ln w="127080">
              <a:solidFill>
                <a:srgbClr val="99ff99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45200" y="5527800"/>
              <a:ext cx="26748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lnSpc>
                  <a:spcPct val="30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37520" y="3470400"/>
              <a:ext cx="650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6145200" y="6262560"/>
              <a:ext cx="2674800" cy="507960"/>
              <a:chOff x="6145200" y="6262560"/>
              <a:chExt cx="2674800" cy="50796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6270480" y="6262560"/>
                <a:ext cx="2425320" cy="507960"/>
                <a:chOff x="6270480" y="6262560"/>
                <a:chExt cx="2425320" cy="5079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2704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4306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92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54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916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78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240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4019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562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724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886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048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210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372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534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69580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145200" y="633564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414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 achieves full efficiency when all 32 Threads of a Warp follow the same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reads of a Warp diverge due to conditional branch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rp serially executes each branch path ta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that are not on the path are disab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ll paths complete, the Threads reconve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M uses a branch synchronization stack to manage independent Threads that diverge and conver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 divergence only occurs within a Wa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ps execute independently, whether they are executing common or disjoint code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coreboard gives support all th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537520" y="1233360"/>
            <a:ext cx="3282480" cy="5537160"/>
            <a:chOff x="5537520" y="1233360"/>
            <a:chExt cx="3282480" cy="5537160"/>
          </a:xfrm>
        </p:grpSpPr>
        <p:pic>
          <p:nvPicPr>
            <p:cNvPr id="370" name="" descr=""/>
            <p:cNvPicPr/>
            <p:nvPr/>
          </p:nvPicPr>
          <p:blipFill>
            <a:blip r:embed="rId2"/>
            <a:srcRect l="9766" t="0" r="5065" b="26537"/>
            <a:stretch/>
          </p:blipFill>
          <p:spPr>
            <a:xfrm>
              <a:off x="6243480" y="1233360"/>
              <a:ext cx="2479680" cy="134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1" name=""/>
            <p:cNvGrpSpPr/>
            <p:nvPr/>
          </p:nvGrpSpPr>
          <p:grpSpPr>
            <a:xfrm>
              <a:off x="6145200" y="3773520"/>
              <a:ext cx="2674800" cy="507960"/>
              <a:chOff x="6145200" y="3773520"/>
              <a:chExt cx="2674800" cy="50796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6270480" y="3773520"/>
                <a:ext cx="2425320" cy="507960"/>
                <a:chOff x="6270480" y="3773520"/>
                <a:chExt cx="2425320" cy="5079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62704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4306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592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754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916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078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240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4019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562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724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886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048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210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372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534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69580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6145200" y="384984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5856120" y="3798720"/>
              <a:ext cx="0" cy="292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45200" y="2778120"/>
              <a:ext cx="2674800" cy="576360"/>
            </a:xfrm>
            <a:prstGeom prst="rect">
              <a:avLst/>
            </a:prstGeom>
            <a:solidFill>
              <a:srgbClr val="99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 multithrea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rp schedu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145200" y="4352760"/>
              <a:ext cx="2674800" cy="507960"/>
              <a:chOff x="6145200" y="4352760"/>
              <a:chExt cx="2674800" cy="50796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6270480" y="4352760"/>
                <a:ext cx="2425320" cy="507960"/>
                <a:chOff x="6270480" y="4352760"/>
                <a:chExt cx="2425320" cy="50796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62704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4306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592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754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916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078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40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4019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62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724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886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048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210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72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534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69580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6145200" y="4417920"/>
                <a:ext cx="2674800" cy="284400"/>
              </a:xfrm>
              <a:prstGeom prst="rect">
                <a:avLst/>
              </a:prstGeom>
              <a:solidFill>
                <a:srgbClr val="00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1 instruction 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145200" y="4933800"/>
              <a:ext cx="2674800" cy="507960"/>
              <a:chOff x="6145200" y="4933800"/>
              <a:chExt cx="2674800" cy="5079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6270480" y="4933800"/>
                <a:ext cx="2425320" cy="507960"/>
                <a:chOff x="6270480" y="4933800"/>
                <a:chExt cx="2425320" cy="507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2704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306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592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754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916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078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240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4019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562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724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886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048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210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372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534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69580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6145200" y="501336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145200" y="5681520"/>
              <a:ext cx="2674800" cy="507960"/>
              <a:chOff x="6145200" y="5681520"/>
              <a:chExt cx="2674800" cy="5079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6270480" y="5681520"/>
                <a:ext cx="2425320" cy="507960"/>
                <a:chOff x="6270480" y="5681520"/>
                <a:chExt cx="2425320" cy="5079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2704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4306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592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754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916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078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240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4019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562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724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886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048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210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372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534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69580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45200" y="576396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7483320" y="3360600"/>
              <a:ext cx="0" cy="368280"/>
            </a:xfrm>
            <a:prstGeom prst="line">
              <a:avLst/>
            </a:prstGeom>
            <a:ln w="127080">
              <a:solidFill>
                <a:srgbClr val="99ff99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45200" y="5527800"/>
              <a:ext cx="26748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lnSpc>
                  <a:spcPct val="30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37520" y="3470400"/>
              <a:ext cx="650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6145200" y="6262560"/>
              <a:ext cx="2674800" cy="507960"/>
              <a:chOff x="6145200" y="6262560"/>
              <a:chExt cx="2674800" cy="50796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6270480" y="6262560"/>
                <a:ext cx="2425320" cy="507960"/>
                <a:chOff x="6270480" y="6262560"/>
                <a:chExt cx="2425320" cy="5079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2704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4306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592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754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916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078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240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4019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62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724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86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048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10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372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534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69580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6145200" y="633564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878120" y="2960640"/>
            <a:ext cx="2262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eri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977240" y="306072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Gri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003640" y="3497400"/>
            <a:ext cx="3927240" cy="834840"/>
            <a:chOff x="5003640" y="3497400"/>
            <a:chExt cx="3927240" cy="834840"/>
          </a:xfrm>
        </p:grpSpPr>
        <p:sp>
          <p:nvSpPr>
            <p:cNvPr id="474" name=""/>
            <p:cNvSpPr/>
            <p:nvPr/>
          </p:nvSpPr>
          <p:spPr>
            <a:xfrm>
              <a:off x="5003640" y="3497400"/>
              <a:ext cx="3927240" cy="83484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65760" y="381744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5090760" y="3565080"/>
              <a:ext cx="777960" cy="700560"/>
              <a:chOff x="5090760" y="3565080"/>
              <a:chExt cx="777960" cy="700560"/>
            </a:xfrm>
          </p:grpSpPr>
          <p:sp>
            <p:nvSpPr>
              <p:cNvPr id="477" name=""/>
              <p:cNvSpPr/>
              <p:nvPr/>
            </p:nvSpPr>
            <p:spPr>
              <a:xfrm>
                <a:off x="5090760" y="3565080"/>
                <a:ext cx="7779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5167440" y="3651120"/>
                <a:ext cx="623520" cy="529200"/>
                <a:chOff x="5167440" y="3651120"/>
                <a:chExt cx="623520" cy="5292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516744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2221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2725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32368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3740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42520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4756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5263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5767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627880" y="3651120"/>
                  <a:ext cx="1119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6782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"/>
            <p:cNvGrpSpPr/>
            <p:nvPr/>
          </p:nvGrpSpPr>
          <p:grpSpPr>
            <a:xfrm>
              <a:off x="5938560" y="3565080"/>
              <a:ext cx="777960" cy="700560"/>
              <a:chOff x="5938560" y="3565080"/>
              <a:chExt cx="777960" cy="700560"/>
            </a:xfrm>
          </p:grpSpPr>
          <p:sp>
            <p:nvSpPr>
              <p:cNvPr id="491" name=""/>
              <p:cNvSpPr/>
              <p:nvPr/>
            </p:nvSpPr>
            <p:spPr>
              <a:xfrm>
                <a:off x="5938560" y="3565080"/>
                <a:ext cx="7779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6015240" y="3651120"/>
                <a:ext cx="623520" cy="529200"/>
                <a:chOff x="6015240" y="3651120"/>
                <a:chExt cx="623520" cy="529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01524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0699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1203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17148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2218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27300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3234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3741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4245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75680" y="3651120"/>
                  <a:ext cx="1119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5260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4" name=""/>
            <p:cNvGrpSpPr/>
            <p:nvPr/>
          </p:nvGrpSpPr>
          <p:grpSpPr>
            <a:xfrm>
              <a:off x="8065800" y="3565080"/>
              <a:ext cx="777960" cy="700560"/>
              <a:chOff x="8065800" y="3565080"/>
              <a:chExt cx="777960" cy="700560"/>
            </a:xfrm>
          </p:grpSpPr>
          <p:sp>
            <p:nvSpPr>
              <p:cNvPr id="505" name=""/>
              <p:cNvSpPr/>
              <p:nvPr/>
            </p:nvSpPr>
            <p:spPr>
              <a:xfrm>
                <a:off x="8065800" y="3565080"/>
                <a:ext cx="7779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8142480" y="3651120"/>
                <a:ext cx="623520" cy="529200"/>
                <a:chOff x="8142480" y="3651120"/>
                <a:chExt cx="623520" cy="5292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814248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19720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4760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29872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34912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40024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45064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5014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5518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602920" y="3651120"/>
                  <a:ext cx="1119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65332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"/>
            <p:cNvGrpSpPr/>
            <p:nvPr/>
          </p:nvGrpSpPr>
          <p:grpSpPr>
            <a:xfrm>
              <a:off x="6789600" y="3565080"/>
              <a:ext cx="776160" cy="700560"/>
              <a:chOff x="6789600" y="3565080"/>
              <a:chExt cx="776160" cy="700560"/>
            </a:xfrm>
          </p:grpSpPr>
          <p:sp>
            <p:nvSpPr>
              <p:cNvPr id="519" name=""/>
              <p:cNvSpPr/>
              <p:nvPr/>
            </p:nvSpPr>
            <p:spPr>
              <a:xfrm>
                <a:off x="6789600" y="3565080"/>
                <a:ext cx="7761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866280" y="3651120"/>
                <a:ext cx="622080" cy="529200"/>
                <a:chOff x="6866280" y="3651120"/>
                <a:chExt cx="622080" cy="5292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86628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92100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7104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2216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072560" y="3651120"/>
                  <a:ext cx="11232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123320" y="3651120"/>
                  <a:ext cx="11232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17372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2244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2748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325640" y="3651120"/>
                  <a:ext cx="1116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376040" y="3651120"/>
                  <a:ext cx="11232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2" name=""/>
          <p:cNvGrpSpPr/>
          <p:nvPr/>
        </p:nvGrpSpPr>
        <p:grpSpPr>
          <a:xfrm>
            <a:off x="5052960" y="5878440"/>
            <a:ext cx="3927240" cy="833400"/>
            <a:chOff x="5052960" y="5878440"/>
            <a:chExt cx="3927240" cy="833400"/>
          </a:xfrm>
        </p:grpSpPr>
        <p:sp>
          <p:nvSpPr>
            <p:cNvPr id="533" name=""/>
            <p:cNvSpPr/>
            <p:nvPr/>
          </p:nvSpPr>
          <p:spPr>
            <a:xfrm>
              <a:off x="5052960" y="5878440"/>
              <a:ext cx="3927240" cy="83340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15440" y="61992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5140080" y="5946120"/>
              <a:ext cx="777960" cy="699480"/>
              <a:chOff x="5140080" y="5946120"/>
              <a:chExt cx="777960" cy="699480"/>
            </a:xfrm>
          </p:grpSpPr>
          <p:sp>
            <p:nvSpPr>
              <p:cNvPr id="536" name=""/>
              <p:cNvSpPr/>
              <p:nvPr/>
            </p:nvSpPr>
            <p:spPr>
              <a:xfrm>
                <a:off x="5140080" y="594612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5216760" y="6031800"/>
                <a:ext cx="623520" cy="528480"/>
                <a:chOff x="5216760" y="6031800"/>
                <a:chExt cx="623520" cy="52848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521676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2714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3218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37300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4234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47452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5249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5756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260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677200" y="603180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7276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"/>
            <p:cNvGrpSpPr/>
            <p:nvPr/>
          </p:nvGrpSpPr>
          <p:grpSpPr>
            <a:xfrm>
              <a:off x="5987880" y="5946120"/>
              <a:ext cx="777960" cy="699480"/>
              <a:chOff x="5987880" y="5946120"/>
              <a:chExt cx="777960" cy="69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987880" y="594612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6064560" y="6031800"/>
                <a:ext cx="623520" cy="528480"/>
                <a:chOff x="6064560" y="6031800"/>
                <a:chExt cx="623520" cy="52848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06456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1192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1696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22080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2712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32232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3727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4234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4738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25000" y="603180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5754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"/>
            <p:cNvGrpSpPr/>
            <p:nvPr/>
          </p:nvGrpSpPr>
          <p:grpSpPr>
            <a:xfrm>
              <a:off x="8115120" y="5946120"/>
              <a:ext cx="777960" cy="699480"/>
              <a:chOff x="8115120" y="5946120"/>
              <a:chExt cx="777960" cy="699480"/>
            </a:xfrm>
          </p:grpSpPr>
          <p:sp>
            <p:nvSpPr>
              <p:cNvPr id="564" name=""/>
              <p:cNvSpPr/>
              <p:nvPr/>
            </p:nvSpPr>
            <p:spPr>
              <a:xfrm>
                <a:off x="8115120" y="594612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8191800" y="6031800"/>
                <a:ext cx="623520" cy="528480"/>
                <a:chOff x="8191800" y="6031800"/>
                <a:chExt cx="623520" cy="528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819180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24652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29692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34804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39844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44956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49996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5507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6011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652240" y="603180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70264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7" name=""/>
            <p:cNvGrpSpPr/>
            <p:nvPr/>
          </p:nvGrpSpPr>
          <p:grpSpPr>
            <a:xfrm>
              <a:off x="6838920" y="5946120"/>
              <a:ext cx="776160" cy="699480"/>
              <a:chOff x="6838920" y="5946120"/>
              <a:chExt cx="776160" cy="699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838920" y="5946120"/>
                <a:ext cx="7761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6915600" y="6031800"/>
                <a:ext cx="622080" cy="528480"/>
                <a:chOff x="6915600" y="6031800"/>
                <a:chExt cx="622080" cy="5284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691560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97032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02036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7148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121880" y="603180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72640" y="603180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22304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738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3242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374960" y="6031800"/>
                  <a:ext cx="1116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425360" y="603180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1" name=""/>
          <p:cNvSpPr/>
          <p:nvPr/>
        </p:nvSpPr>
        <p:spPr>
          <a:xfrm>
            <a:off x="1090440" y="3846600"/>
            <a:ext cx="386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GPU Parallel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KernelA&lt;&lt;&lt; nBlk, nThr &gt;&gt;&gt;(ar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912000" y="2889360"/>
            <a:ext cx="47520" cy="520560"/>
          </a:xfrm>
          <a:custGeom>
            <a:avLst/>
            <a:gdLst/>
            <a:ahLst/>
            <a:rect l="l" t="t" r="r" b="b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050320" y="546408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Gri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09720" y="5335560"/>
            <a:ext cx="2293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eri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85080" y="5265720"/>
            <a:ext cx="46080" cy="511200"/>
          </a:xfrm>
          <a:custGeom>
            <a:avLst/>
            <a:gdLst/>
            <a:ahLst/>
            <a:rect l="l" t="t" r="r" b="b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90440" y="5765760"/>
            <a:ext cx="386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GPU Parallel Ker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KernelB&lt;&lt;&lt; nBlk, nThr &gt;&gt;&gt;(ar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ing back to the to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+CUDA parallel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serial parts that execute on 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arallel CUDA Kernels that execute on GPU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ids of Blocks of Threa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5003640" y="4324320"/>
            <a:ext cx="3927240" cy="833400"/>
            <a:chOff x="5003640" y="4324320"/>
            <a:chExt cx="3927240" cy="833400"/>
          </a:xfrm>
        </p:grpSpPr>
        <p:sp>
          <p:nvSpPr>
            <p:cNvPr id="600" name=""/>
            <p:cNvSpPr/>
            <p:nvPr/>
          </p:nvSpPr>
          <p:spPr>
            <a:xfrm>
              <a:off x="5003640" y="4324320"/>
              <a:ext cx="3927240" cy="83340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66120" y="4645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5090760" y="4392000"/>
              <a:ext cx="777960" cy="699480"/>
              <a:chOff x="5090760" y="4392000"/>
              <a:chExt cx="777960" cy="699480"/>
            </a:xfrm>
          </p:grpSpPr>
          <p:sp>
            <p:nvSpPr>
              <p:cNvPr id="603" name=""/>
              <p:cNvSpPr/>
              <p:nvPr/>
            </p:nvSpPr>
            <p:spPr>
              <a:xfrm>
                <a:off x="5090760" y="439200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5167440" y="4477680"/>
                <a:ext cx="623520" cy="528480"/>
                <a:chOff x="5167440" y="4477680"/>
                <a:chExt cx="623520" cy="5284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516744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2221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2725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32368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3740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42520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4756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5263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5767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627880" y="447768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6782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6" name=""/>
            <p:cNvGrpSpPr/>
            <p:nvPr/>
          </p:nvGrpSpPr>
          <p:grpSpPr>
            <a:xfrm>
              <a:off x="5938560" y="4392000"/>
              <a:ext cx="777960" cy="699480"/>
              <a:chOff x="5938560" y="4392000"/>
              <a:chExt cx="777960" cy="699480"/>
            </a:xfrm>
          </p:grpSpPr>
          <p:sp>
            <p:nvSpPr>
              <p:cNvPr id="617" name=""/>
              <p:cNvSpPr/>
              <p:nvPr/>
            </p:nvSpPr>
            <p:spPr>
              <a:xfrm>
                <a:off x="5938560" y="439200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6015240" y="4477680"/>
                <a:ext cx="623520" cy="528480"/>
                <a:chOff x="6015240" y="4477680"/>
                <a:chExt cx="623520" cy="52848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1524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0699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1203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17148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2218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27300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3234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3741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4245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475680" y="447768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5260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0" name=""/>
            <p:cNvGrpSpPr/>
            <p:nvPr/>
          </p:nvGrpSpPr>
          <p:grpSpPr>
            <a:xfrm>
              <a:off x="8065800" y="4392000"/>
              <a:ext cx="777960" cy="699480"/>
              <a:chOff x="8065800" y="4392000"/>
              <a:chExt cx="777960" cy="699480"/>
            </a:xfrm>
          </p:grpSpPr>
          <p:sp>
            <p:nvSpPr>
              <p:cNvPr id="631" name=""/>
              <p:cNvSpPr/>
              <p:nvPr/>
            </p:nvSpPr>
            <p:spPr>
              <a:xfrm>
                <a:off x="8065800" y="439200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8142480" y="4477680"/>
                <a:ext cx="623520" cy="528480"/>
                <a:chOff x="8142480" y="4477680"/>
                <a:chExt cx="623520" cy="5284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14248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19720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24760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29872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34912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40024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45064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5014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5518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602920" y="447768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65332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4" name=""/>
            <p:cNvGrpSpPr/>
            <p:nvPr/>
          </p:nvGrpSpPr>
          <p:grpSpPr>
            <a:xfrm>
              <a:off x="6789600" y="4392000"/>
              <a:ext cx="776160" cy="699480"/>
              <a:chOff x="6789600" y="4392000"/>
              <a:chExt cx="776160" cy="699480"/>
            </a:xfrm>
          </p:grpSpPr>
          <p:sp>
            <p:nvSpPr>
              <p:cNvPr id="645" name=""/>
              <p:cNvSpPr/>
              <p:nvPr/>
            </p:nvSpPr>
            <p:spPr>
              <a:xfrm>
                <a:off x="6789600" y="4392000"/>
                <a:ext cx="7761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6866280" y="4477680"/>
                <a:ext cx="622080" cy="528480"/>
                <a:chOff x="6866280" y="4477680"/>
                <a:chExt cx="622080" cy="5284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686628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92100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97104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02216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072560" y="447768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123320" y="447768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17372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2244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2748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325640" y="4477680"/>
                  <a:ext cx="1116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376040" y="447768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8" name=""/>
          <p:cNvGrpSpPr/>
          <p:nvPr/>
        </p:nvGrpSpPr>
        <p:grpSpPr>
          <a:xfrm>
            <a:off x="4103640" y="2637000"/>
            <a:ext cx="4861080" cy="2592360"/>
            <a:chOff x="4103640" y="2637000"/>
            <a:chExt cx="4861080" cy="2592360"/>
          </a:xfrm>
        </p:grpSpPr>
        <p:sp>
          <p:nvSpPr>
            <p:cNvPr id="659" name=""/>
            <p:cNvSpPr/>
            <p:nvPr/>
          </p:nvSpPr>
          <p:spPr>
            <a:xfrm>
              <a:off x="4751280" y="3284640"/>
              <a:ext cx="18108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03640" y="2637000"/>
              <a:ext cx="1297080" cy="57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id: 1D, 2D, or 3D group of Blo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67280" y="3429000"/>
              <a:ext cx="3997440" cy="180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40360" y="2600280"/>
            <a:ext cx="1727280" cy="1692360"/>
            <a:chOff x="5040360" y="2600280"/>
            <a:chExt cx="1727280" cy="1692360"/>
          </a:xfrm>
        </p:grpSpPr>
        <p:sp>
          <p:nvSpPr>
            <p:cNvPr id="663" name=""/>
            <p:cNvSpPr/>
            <p:nvPr/>
          </p:nvSpPr>
          <p:spPr>
            <a:xfrm flipH="1">
              <a:off x="5904000" y="3213000"/>
              <a:ext cx="18072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00720" y="2600280"/>
              <a:ext cx="1366920" cy="57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ck: 1D, 2D, or 3D group of Threa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40360" y="3537000"/>
              <a:ext cx="863640" cy="75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008320" y="1328760"/>
            <a:ext cx="4046760" cy="5371920"/>
            <a:chOff x="5008320" y="1328760"/>
            <a:chExt cx="4046760" cy="5371920"/>
          </a:xfrm>
        </p:grpSpPr>
        <p:sp>
          <p:nvSpPr>
            <p:cNvPr id="668" name=""/>
            <p:cNvSpPr/>
            <p:nvPr/>
          </p:nvSpPr>
          <p:spPr>
            <a:xfrm>
              <a:off x="5008320" y="1328760"/>
              <a:ext cx="1065240" cy="454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H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65720" y="2087640"/>
              <a:ext cx="685800" cy="53316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Kern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43400" y="3840120"/>
              <a:ext cx="682560" cy="5302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Kern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37200" y="1990800"/>
              <a:ext cx="1440" cy="269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62560" y="1336680"/>
              <a:ext cx="2792520" cy="454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De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6421320" y="1747800"/>
              <a:ext cx="2467080" cy="1593720"/>
              <a:chOff x="6421320" y="1747800"/>
              <a:chExt cx="2467080" cy="1593720"/>
            </a:xfrm>
          </p:grpSpPr>
          <p:sp>
            <p:nvSpPr>
              <p:cNvPr id="674" name=""/>
              <p:cNvSpPr/>
              <p:nvPr/>
            </p:nvSpPr>
            <p:spPr>
              <a:xfrm>
                <a:off x="6421320" y="1747800"/>
                <a:ext cx="2467080" cy="159372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</a:rPr>
                  <a:t>Grid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6519960" y="2102400"/>
                <a:ext cx="2268720" cy="517680"/>
                <a:chOff x="6519960" y="2102400"/>
                <a:chExt cx="2268720" cy="51768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6519960" y="210240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0, 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300080" y="210240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1, 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080920" y="210240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2, 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6519960" y="2712240"/>
                <a:ext cx="2268720" cy="517680"/>
                <a:chOff x="6519960" y="2712240"/>
                <a:chExt cx="2268720" cy="51768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6519960" y="271224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0, 1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300080" y="271224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1, 1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080920" y="271224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2, 1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6618240" y="3492360"/>
              <a:ext cx="2073240" cy="2248200"/>
              <a:chOff x="6618240" y="3492360"/>
              <a:chExt cx="2073240" cy="2248200"/>
            </a:xfrm>
          </p:grpSpPr>
          <p:sp>
            <p:nvSpPr>
              <p:cNvPr id="684" name=""/>
              <p:cNvSpPr/>
              <p:nvPr/>
            </p:nvSpPr>
            <p:spPr>
              <a:xfrm>
                <a:off x="6618240" y="3492360"/>
                <a:ext cx="2073240" cy="224820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</a:rPr>
                  <a:t>Grid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721200" y="3844440"/>
                <a:ext cx="1866960" cy="534240"/>
                <a:chOff x="6721200" y="3844440"/>
                <a:chExt cx="1866960" cy="534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72120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20540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68996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17524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6721200" y="4473720"/>
                <a:ext cx="1866960" cy="534600"/>
                <a:chOff x="6721200" y="4473720"/>
                <a:chExt cx="1866960" cy="5346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672120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20540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68996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17524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6721200" y="5103000"/>
                <a:ext cx="1866960" cy="534600"/>
                <a:chOff x="6721200" y="5103000"/>
                <a:chExt cx="1866960" cy="53460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672120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20540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68996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17524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0" name=""/>
            <p:cNvGrpSpPr/>
            <p:nvPr/>
          </p:nvGrpSpPr>
          <p:grpSpPr>
            <a:xfrm>
              <a:off x="5607000" y="4645080"/>
              <a:ext cx="2801880" cy="2055600"/>
              <a:chOff x="5607000" y="4645080"/>
              <a:chExt cx="2801880" cy="2055600"/>
            </a:xfrm>
          </p:grpSpPr>
          <p:sp>
            <p:nvSpPr>
              <p:cNvPr id="701" name=""/>
              <p:cNvSpPr/>
              <p:nvPr/>
            </p:nvSpPr>
            <p:spPr>
              <a:xfrm>
                <a:off x="5607000" y="4645080"/>
                <a:ext cx="2801880" cy="2055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</a:rPr>
                  <a:t>Block (1, 1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2" name=""/>
              <p:cNvGrpSpPr/>
              <p:nvPr/>
            </p:nvGrpSpPr>
            <p:grpSpPr>
              <a:xfrm>
                <a:off x="5711760" y="5021280"/>
                <a:ext cx="2591640" cy="1553400"/>
                <a:chOff x="5711760" y="5021280"/>
                <a:chExt cx="2591640" cy="1553400"/>
              </a:xfrm>
            </p:grpSpPr>
            <p:grpSp>
              <p:nvGrpSpPr>
                <p:cNvPr id="703" name=""/>
                <p:cNvGrpSpPr/>
                <p:nvPr/>
              </p:nvGrpSpPr>
              <p:grpSpPr>
                <a:xfrm>
                  <a:off x="5711760" y="5021280"/>
                  <a:ext cx="2591640" cy="1553400"/>
                  <a:chOff x="5711760" y="5021280"/>
                  <a:chExt cx="2591640" cy="155340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5711760" y="5021280"/>
                    <a:ext cx="2588760" cy="1553400"/>
                  </a:xfrm>
                  <a:prstGeom prst="rect">
                    <a:avLst/>
                  </a:prstGeom>
                  <a:solidFill>
                    <a:srgbClr val="ff66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V="1">
                    <a:off x="5711760" y="5537520"/>
                    <a:ext cx="259164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712120" y="6057000"/>
                    <a:ext cx="2591280" cy="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22944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74712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26480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78284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5787000" y="5664240"/>
                  <a:ext cx="2441880" cy="268560"/>
                  <a:chOff x="5787000" y="5664240"/>
                  <a:chExt cx="2441880" cy="26856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>
                    <a:off x="5787000" y="566424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0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6304680" y="566424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1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823080" y="566424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2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7340760" y="566424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3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7859160" y="566424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4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5787000" y="6180480"/>
                  <a:ext cx="2441880" cy="268200"/>
                  <a:chOff x="5787000" y="6180480"/>
                  <a:chExt cx="2441880" cy="26820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5787000" y="6180480"/>
                    <a:ext cx="36936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0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04680" y="6180480"/>
                    <a:ext cx="36936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1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823080" y="6180480"/>
                    <a:ext cx="36972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2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7340760" y="6180480"/>
                    <a:ext cx="36972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3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7859160" y="6180480"/>
                    <a:ext cx="36972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4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5786640" y="5148360"/>
                  <a:ext cx="2441880" cy="268560"/>
                  <a:chOff x="5786640" y="5148360"/>
                  <a:chExt cx="2441880" cy="26856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5786640" y="514836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0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304320" y="514836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1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822720" y="514836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2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7340400" y="514836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3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858800" y="514836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4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29" name=""/>
            <p:cNvSpPr/>
            <p:nvPr/>
          </p:nvSpPr>
          <p:spPr>
            <a:xfrm>
              <a:off x="5910120" y="2255760"/>
              <a:ext cx="51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25960" y="4006800"/>
              <a:ext cx="687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606640" y="2708280"/>
              <a:ext cx="1695240" cy="1936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07120" y="2708280"/>
              <a:ext cx="385920" cy="192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6613200" y="3227400"/>
              <a:ext cx="688680" cy="140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07120" y="3236760"/>
              <a:ext cx="158760" cy="141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616360" y="4637160"/>
              <a:ext cx="989280" cy="2055600"/>
            </a:xfrm>
            <a:prstGeom prst="line">
              <a:avLst/>
            </a:prstGeom>
            <a:ln w="9360">
              <a:solidFill>
                <a:srgbClr val="000000">
                  <a:alpha val="1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65880" y="4637160"/>
              <a:ext cx="243000" cy="2063520"/>
            </a:xfrm>
            <a:prstGeom prst="line">
              <a:avLst/>
            </a:prstGeom>
            <a:ln w="9360">
              <a:solidFill>
                <a:srgbClr val="000000">
                  <a:alpha val="1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Ker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xecuted as a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Gr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lo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group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rea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can cooperate with each other b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tly sharing data through the low latency share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zing their execution for hazard-free shared memory a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rea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wo different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loc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not directly coope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5563440" y="184464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DA Thread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11760" y="2484360"/>
            <a:ext cx="2754360" cy="29289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read I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#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1 2 3 …          m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977080" y="3216240"/>
            <a:ext cx="2237400" cy="1976040"/>
            <a:chOff x="5977080" y="3216240"/>
            <a:chExt cx="2237400" cy="1976040"/>
          </a:xfrm>
        </p:grpSpPr>
        <p:sp>
          <p:nvSpPr>
            <p:cNvPr id="741" name=""/>
            <p:cNvSpPr/>
            <p:nvPr/>
          </p:nvSpPr>
          <p:spPr>
            <a:xfrm>
              <a:off x="597708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7400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5472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3796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18680" y="3216240"/>
              <a:ext cx="40464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01920" y="3216240"/>
              <a:ext cx="40464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81920" y="3216240"/>
              <a:ext cx="40536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65160" y="3216240"/>
              <a:ext cx="40536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445880" y="3216240"/>
              <a:ext cx="40536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9120" y="3216240"/>
              <a:ext cx="40212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09840" y="3216240"/>
              <a:ext cx="40464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5977080" y="3755880"/>
            <a:ext cx="2232000" cy="603360"/>
          </a:xfrm>
          <a:prstGeom prst="roundRect">
            <a:avLst>
              <a:gd name="adj" fmla="val 16667"/>
            </a:avLst>
          </a:prstGeom>
          <a:solidFill>
            <a:srgbClr val="003300">
              <a:alpha val="80000"/>
            </a:srgbClr>
          </a:solidFill>
          <a:ln w="9360">
            <a:solidFill>
              <a:srgbClr val="7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hread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grammer declares Bloc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1, 2, or 3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ing 1 to 512 Threads in to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reads in a Block execute the sam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Thread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s have 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read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in a B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s share data and synchronize while doing their share of the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Thread Progr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es th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read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select work and to address shared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3640" cy="51228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780000" y="6524640"/>
            <a:ext cx="25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227640" y="1305000"/>
            <a:ext cx="1836720" cy="1152360"/>
          </a:xfrm>
          <a:prstGeom prst="wedgeRectCallout">
            <a:avLst>
              <a:gd name="adj1" fmla="val -41268"/>
              <a:gd name="adj2" fmla="val 7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Based on Kernel calls, enumerate the Blocks of the Grids and distribute them to the SMs of the S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934920" y="2384280"/>
            <a:ext cx="1352520" cy="540000"/>
          </a:xfrm>
          <a:prstGeom prst="wedgeRectCallout">
            <a:avLst>
              <a:gd name="adj1" fmla="val 37324"/>
              <a:gd name="adj2" fmla="val -167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alls GPU’s Ker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s are serially distributed to al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cally more than 1 Block p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unches Warps of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 levels of 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hedule and execute Warps that are ready to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arps and Blocks complete, resources are fr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SP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distribute more B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5040360" y="3068640"/>
            <a:ext cx="21600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256360" y="3068640"/>
            <a:ext cx="21564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eForce 8800 in number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exture/Processor Clusters (TP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Multiprocessors (S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 Streaming-Processor (SP) cor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handle 8 Block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schedule 24 Warp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Warp can have up to 32 active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manage 24x32=768 simultaneous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Force can execute 768x16=12,288 Threads concurrentl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003640" y="2889360"/>
            <a:ext cx="505080" cy="1152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40360" y="3068640"/>
            <a:ext cx="21600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464000" y="3176640"/>
            <a:ext cx="612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967280" y="2168640"/>
            <a:ext cx="3997440" cy="22683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67200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ngle Instruction Multiple Thread (SIMT) architecture of CUDA enabled GPUs allows the implementation of scalable massively multithreaded general purpos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38760" y="1484280"/>
            <a:ext cx="4197240" cy="5040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00720" y="533700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1042920" y="2637000"/>
          <a:ext cx="7869240" cy="3189240"/>
        </p:xfrm>
        <a:graphic>
          <a:graphicData uri="http://schemas.openxmlformats.org/drawingml/2006/table">
            <a:tbl>
              <a:tblPr/>
              <a:tblGrid>
                <a:gridCol w="2622600"/>
                <a:gridCol w="2624040"/>
                <a:gridCol w="262260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 Core 2 Extreme QX96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VIDIA GeForce GTX 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ak Gflop/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Gflop/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3 Gflop/s ~ 10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sto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mill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 billion ~ 2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or cloc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GHz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96 GHz ~ 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~ 60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he / Shared Memo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B x 2 (12M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KB x 30 (0,48MB) ~ 1/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ads executed per c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~ 60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ware threads in fligh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720 ~ 8,000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 Bandwidt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 GB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.7 GBps ~ 11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"/>
          <p:cNvSpPr/>
          <p:nvPr/>
        </p:nvSpPr>
        <p:spPr>
          <a:xfrm>
            <a:off x="1116000" y="1341360"/>
            <a:ext cx="78692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l Core 2 Extreme QX9650 versus NVIDIA GeForce GTX 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"/>
          <p:cNvCxnSpPr/>
          <p:nvPr/>
        </p:nvCxnSpPr>
        <p:spPr>
          <a:xfrm flipH="1" rot="10800000">
            <a:off x="6300360" y="4615560"/>
            <a:ext cx="2520" cy="683640"/>
          </a:xfrm>
          <a:prstGeom prst="curvedConnector5">
            <a:avLst>
              <a:gd name="adj1" fmla="val -24400000"/>
              <a:gd name="adj2" fmla="val 50000"/>
              <a:gd name="adj3" fmla="val -2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"/>
          <p:cNvSpPr/>
          <p:nvPr/>
        </p:nvSpPr>
        <p:spPr>
          <a:xfrm>
            <a:off x="5040360" y="5445000"/>
            <a:ext cx="884160" cy="324000"/>
          </a:xfrm>
          <a:prstGeom prst="wedgeRectCallout">
            <a:avLst>
              <a:gd name="adj1" fmla="val 90037"/>
              <a:gd name="adj2" fmla="val -872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Use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859280" y="3789360"/>
            <a:ext cx="1316160" cy="539640"/>
          </a:xfrm>
          <a:prstGeom prst="wedgeRectCallout">
            <a:avLst>
              <a:gd name="adj1" fmla="val 52291"/>
              <a:gd name="adj2" fmla="val 10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o compensate for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y (hardwa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is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hared Mem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tant Cac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xture Cac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ice Mem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DRAM, 100s of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GeForce 8800 SM has 8192 32-bit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n implementation decision, not part of CU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s are dynamically partitioned across all Blocks assigned to the 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ssigned to a Block, the register is NOT accessible by Threads in other B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in the same Block only accesses registers assigned to itse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42920" y="1371240"/>
            <a:ext cx="794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registers constrains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each Block has 16X16 Threads and each Thread uses 10 registers, how many Blocks can run on each S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Block requires 10*256 = 2560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192 &gt; 2560 *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three Blocks can run on an SM as far as registers are concer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bout if each Thread increases the use of registers by 1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 Block now requires 11*256 = 2816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192 &lt; 2816 *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only two Blocks can run on an 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GeForce 8800 SM has 16 KB of Share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d in 16 banks of 32bit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DA uses Shared Memory as shared storage visible to all Threads in a B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and write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 bank has a bandwidth of 32 bits per clock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cessive 32-bit words are assigned to successive ba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simultaneous accesses to a ban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in 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ank confli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licting accesses are seri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9355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ar address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de =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051160" y="1341360"/>
            <a:ext cx="39337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 1:1 Permu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224000" y="3033720"/>
            <a:ext cx="3657240" cy="3276360"/>
            <a:chOff x="1224000" y="3033720"/>
            <a:chExt cx="3657240" cy="3276360"/>
          </a:xfrm>
        </p:grpSpPr>
        <p:grpSp>
          <p:nvGrpSpPr>
            <p:cNvPr id="795" name=""/>
            <p:cNvGrpSpPr/>
            <p:nvPr/>
          </p:nvGrpSpPr>
          <p:grpSpPr>
            <a:xfrm>
              <a:off x="3662280" y="3033720"/>
              <a:ext cx="1218960" cy="3276360"/>
              <a:chOff x="3662280" y="3033720"/>
              <a:chExt cx="1218960" cy="3276360"/>
            </a:xfrm>
          </p:grpSpPr>
          <p:sp>
            <p:nvSpPr>
              <p:cNvPr id="796" name=""/>
              <p:cNvSpPr/>
              <p:nvPr/>
            </p:nvSpPr>
            <p:spPr>
              <a:xfrm>
                <a:off x="3662280" y="59292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62280" y="493848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62280" y="4662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662280" y="439560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62280" y="4119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62280" y="3843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62280" y="35766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62280" y="3300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62280" y="30337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5" name=""/>
              <p:cNvGrpSpPr/>
              <p:nvPr/>
            </p:nvGrpSpPr>
            <p:grpSpPr>
              <a:xfrm>
                <a:off x="4224240" y="5433840"/>
                <a:ext cx="75960" cy="381240"/>
                <a:chOff x="4224240" y="5433840"/>
                <a:chExt cx="75960" cy="38124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4224240" y="5433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224240" y="5586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224240" y="5738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9" name=""/>
            <p:cNvGrpSpPr/>
            <p:nvPr/>
          </p:nvGrpSpPr>
          <p:grpSpPr>
            <a:xfrm>
              <a:off x="1224000" y="3033720"/>
              <a:ext cx="1218960" cy="3276360"/>
              <a:chOff x="1224000" y="3033720"/>
              <a:chExt cx="1218960" cy="3276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224000" y="59292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224000" y="493848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24000" y="4662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24000" y="439560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24000" y="4119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24000" y="3843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24000" y="35766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224000" y="3300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24000" y="30337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1785960" y="5433840"/>
                <a:ext cx="75960" cy="381240"/>
                <a:chOff x="1785960" y="5433840"/>
                <a:chExt cx="75960" cy="3812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785960" y="5433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785960" y="5586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85960" y="5738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823" name=""/>
            <p:cNvCxnSpPr>
              <a:stCxn id="818" idx="4"/>
              <a:endCxn id="804" idx="2"/>
            </p:cNvCxnSpPr>
            <p:nvPr/>
          </p:nvCxnSpPr>
          <p:spPr>
            <a:xfrm>
              <a:off x="2341080" y="327492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4" name=""/>
            <p:cNvCxnSpPr>
              <a:stCxn id="817" idx="4"/>
              <a:endCxn id="803" idx="2"/>
            </p:cNvCxnSpPr>
            <p:nvPr/>
          </p:nvCxnSpPr>
          <p:spPr>
            <a:xfrm>
              <a:off x="2341080" y="354132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5" name=""/>
            <p:cNvCxnSpPr>
              <a:stCxn id="816" idx="4"/>
              <a:endCxn id="802" idx="2"/>
            </p:cNvCxnSpPr>
            <p:nvPr/>
          </p:nvCxnSpPr>
          <p:spPr>
            <a:xfrm>
              <a:off x="2341080" y="38178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6" name=""/>
            <p:cNvCxnSpPr>
              <a:stCxn id="815" idx="4"/>
              <a:endCxn id="801" idx="2"/>
            </p:cNvCxnSpPr>
            <p:nvPr/>
          </p:nvCxnSpPr>
          <p:spPr>
            <a:xfrm>
              <a:off x="2341080" y="408456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7" name=""/>
            <p:cNvCxnSpPr>
              <a:stCxn id="814" idx="4"/>
              <a:endCxn id="800" idx="2"/>
            </p:cNvCxnSpPr>
            <p:nvPr/>
          </p:nvCxnSpPr>
          <p:spPr>
            <a:xfrm>
              <a:off x="2341080" y="436068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8" name=""/>
            <p:cNvCxnSpPr>
              <a:stCxn id="813" idx="4"/>
              <a:endCxn id="799" idx="2"/>
            </p:cNvCxnSpPr>
            <p:nvPr/>
          </p:nvCxnSpPr>
          <p:spPr>
            <a:xfrm>
              <a:off x="2341080" y="46368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9" name=""/>
            <p:cNvCxnSpPr>
              <a:stCxn id="812" idx="4"/>
              <a:endCxn id="798" idx="2"/>
            </p:cNvCxnSpPr>
            <p:nvPr/>
          </p:nvCxnSpPr>
          <p:spPr>
            <a:xfrm>
              <a:off x="2341080" y="490356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30" name=""/>
            <p:cNvCxnSpPr>
              <a:stCxn id="811" idx="4"/>
              <a:endCxn id="797" idx="2"/>
            </p:cNvCxnSpPr>
            <p:nvPr/>
          </p:nvCxnSpPr>
          <p:spPr>
            <a:xfrm>
              <a:off x="2341080" y="517968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31" name=""/>
            <p:cNvCxnSpPr>
              <a:stCxn id="810" idx="4"/>
              <a:endCxn id="796" idx="2"/>
            </p:cNvCxnSpPr>
            <p:nvPr/>
          </p:nvCxnSpPr>
          <p:spPr>
            <a:xfrm>
              <a:off x="2341080" y="61704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832" name=""/>
          <p:cNvGrpSpPr/>
          <p:nvPr/>
        </p:nvGrpSpPr>
        <p:grpSpPr>
          <a:xfrm>
            <a:off x="5184720" y="3032280"/>
            <a:ext cx="3657240" cy="3276360"/>
            <a:chOff x="5184720" y="3032280"/>
            <a:chExt cx="3657240" cy="3276360"/>
          </a:xfrm>
        </p:grpSpPr>
        <p:grpSp>
          <p:nvGrpSpPr>
            <p:cNvPr id="833" name=""/>
            <p:cNvGrpSpPr/>
            <p:nvPr/>
          </p:nvGrpSpPr>
          <p:grpSpPr>
            <a:xfrm>
              <a:off x="7623000" y="3032280"/>
              <a:ext cx="1218960" cy="3276360"/>
              <a:chOff x="7623000" y="3032280"/>
              <a:chExt cx="1218960" cy="3276360"/>
            </a:xfrm>
          </p:grpSpPr>
          <p:sp>
            <p:nvSpPr>
              <p:cNvPr id="834" name=""/>
              <p:cNvSpPr/>
              <p:nvPr/>
            </p:nvSpPr>
            <p:spPr>
              <a:xfrm>
                <a:off x="7623000" y="5927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3000" y="493704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3000" y="4660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3000" y="43941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3000" y="4118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3000" y="3841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3000" y="35751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3000" y="3299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3000" y="30322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8184960" y="5432400"/>
                <a:ext cx="75960" cy="381240"/>
                <a:chOff x="8184960" y="5432400"/>
                <a:chExt cx="75960" cy="3812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8184960" y="5432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184960" y="5585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1849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7" name=""/>
            <p:cNvGrpSpPr/>
            <p:nvPr/>
          </p:nvGrpSpPr>
          <p:grpSpPr>
            <a:xfrm>
              <a:off x="5184720" y="3032280"/>
              <a:ext cx="1218960" cy="3276360"/>
              <a:chOff x="5184720" y="3032280"/>
              <a:chExt cx="1218960" cy="3276360"/>
            </a:xfrm>
          </p:grpSpPr>
          <p:sp>
            <p:nvSpPr>
              <p:cNvPr id="848" name=""/>
              <p:cNvSpPr/>
              <p:nvPr/>
            </p:nvSpPr>
            <p:spPr>
              <a:xfrm>
                <a:off x="5184720" y="5927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184720" y="493704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184720" y="4660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184720" y="43941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184720" y="4118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84720" y="3841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184720" y="35751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184720" y="3299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184720" y="30322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5746680" y="5432400"/>
                <a:ext cx="75960" cy="381240"/>
                <a:chOff x="5746680" y="5432400"/>
                <a:chExt cx="75960" cy="38124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5746680" y="5432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746680" y="5585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74668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861" name=""/>
            <p:cNvCxnSpPr>
              <a:stCxn id="856" idx="4"/>
              <a:endCxn id="841" idx="2"/>
            </p:cNvCxnSpPr>
            <p:nvPr/>
          </p:nvCxnSpPr>
          <p:spPr>
            <a:xfrm>
              <a:off x="6301800" y="3273120"/>
              <a:ext cx="1321200" cy="266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2" name=""/>
            <p:cNvCxnSpPr>
              <a:stCxn id="855" idx="4"/>
              <a:endCxn id="837" idx="2"/>
            </p:cNvCxnSpPr>
            <p:nvPr/>
          </p:nvCxnSpPr>
          <p:spPr>
            <a:xfrm>
              <a:off x="6301800" y="3539880"/>
              <a:ext cx="1321200" cy="1095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3" name=""/>
            <p:cNvCxnSpPr>
              <a:stCxn id="854" idx="4"/>
              <a:endCxn id="840" idx="2"/>
            </p:cNvCxnSpPr>
            <p:nvPr/>
          </p:nvCxnSpPr>
          <p:spPr>
            <a:xfrm>
              <a:off x="6301800" y="38160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4" name=""/>
            <p:cNvCxnSpPr>
              <a:stCxn id="853" idx="4"/>
              <a:endCxn id="842" idx="2"/>
            </p:cNvCxnSpPr>
            <p:nvPr/>
          </p:nvCxnSpPr>
          <p:spPr>
            <a:xfrm flipV="1">
              <a:off x="6301800" y="3273120"/>
              <a:ext cx="1321200" cy="810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5" name=""/>
            <p:cNvCxnSpPr>
              <a:stCxn id="852" idx="4"/>
              <a:endCxn id="839" idx="2"/>
            </p:cNvCxnSpPr>
            <p:nvPr/>
          </p:nvCxnSpPr>
          <p:spPr>
            <a:xfrm flipV="1">
              <a:off x="6301800" y="4082760"/>
              <a:ext cx="1321200" cy="276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6" name=""/>
            <p:cNvCxnSpPr>
              <a:stCxn id="851" idx="4"/>
              <a:endCxn id="835" idx="2"/>
            </p:cNvCxnSpPr>
            <p:nvPr/>
          </p:nvCxnSpPr>
          <p:spPr>
            <a:xfrm>
              <a:off x="6301800" y="4635000"/>
              <a:ext cx="1321200" cy="543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7" name=""/>
            <p:cNvCxnSpPr>
              <a:stCxn id="850" idx="4"/>
              <a:endCxn id="836" idx="2"/>
            </p:cNvCxnSpPr>
            <p:nvPr/>
          </p:nvCxnSpPr>
          <p:spPr>
            <a:xfrm>
              <a:off x="6301800" y="490176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8" name=""/>
            <p:cNvCxnSpPr>
              <a:stCxn id="849" idx="4"/>
              <a:endCxn id="834" idx="2"/>
            </p:cNvCxnSpPr>
            <p:nvPr/>
          </p:nvCxnSpPr>
          <p:spPr>
            <a:xfrm>
              <a:off x="6301800" y="5177880"/>
              <a:ext cx="1321200" cy="99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9" name=""/>
            <p:cNvCxnSpPr>
              <a:stCxn id="848" idx="4"/>
              <a:endCxn id="838" idx="2"/>
            </p:cNvCxnSpPr>
            <p:nvPr/>
          </p:nvCxnSpPr>
          <p:spPr>
            <a:xfrm flipV="1">
              <a:off x="6301800" y="4358880"/>
              <a:ext cx="1321200" cy="181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Bank Addressing Examples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9355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ar address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de ==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way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51160" y="1341360"/>
            <a:ext cx="39337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ar address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de =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-way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258920" y="3105000"/>
            <a:ext cx="3657240" cy="3276720"/>
            <a:chOff x="1258920" y="3105000"/>
            <a:chExt cx="3657240" cy="3276720"/>
          </a:xfrm>
        </p:grpSpPr>
        <p:sp>
          <p:nvSpPr>
            <p:cNvPr id="874" name=""/>
            <p:cNvSpPr/>
            <p:nvPr/>
          </p:nvSpPr>
          <p:spPr>
            <a:xfrm>
              <a:off x="1258920" y="6000840"/>
              <a:ext cx="1219320" cy="38088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58920" y="572436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58920" y="5448240"/>
              <a:ext cx="1219320" cy="38088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58920" y="518148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58920" y="4191120"/>
              <a:ext cx="1219320" cy="38088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258920" y="391464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258920" y="364788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58920" y="337176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258920" y="310500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792440" y="4705200"/>
              <a:ext cx="75960" cy="381240"/>
              <a:chOff x="1792440" y="4705200"/>
              <a:chExt cx="75960" cy="381240"/>
            </a:xfrm>
          </p:grpSpPr>
          <p:sp>
            <p:nvSpPr>
              <p:cNvPr id="884" name=""/>
              <p:cNvSpPr/>
              <p:nvPr/>
            </p:nvSpPr>
            <p:spPr>
              <a:xfrm>
                <a:off x="1792440" y="470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92440" y="48578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792440" y="50101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"/>
            <p:cNvCxnSpPr>
              <a:stCxn id="882" idx="4"/>
            </p:cNvCxnSpPr>
            <p:nvPr/>
          </p:nvCxnSpPr>
          <p:spPr>
            <a:xfrm>
              <a:off x="2376000" y="33462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88" name=""/>
            <p:cNvCxnSpPr>
              <a:stCxn id="881" idx="4"/>
            </p:cNvCxnSpPr>
            <p:nvPr/>
          </p:nvCxnSpPr>
          <p:spPr>
            <a:xfrm>
              <a:off x="2376000" y="3612960"/>
              <a:ext cx="1321200" cy="277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89" name=""/>
            <p:cNvCxnSpPr>
              <a:stCxn id="880" idx="4"/>
            </p:cNvCxnSpPr>
            <p:nvPr/>
          </p:nvCxnSpPr>
          <p:spPr>
            <a:xfrm>
              <a:off x="2376000" y="3889440"/>
              <a:ext cx="1321200" cy="543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0" name=""/>
            <p:cNvCxnSpPr>
              <a:stCxn id="879" idx="4"/>
            </p:cNvCxnSpPr>
            <p:nvPr/>
          </p:nvCxnSpPr>
          <p:spPr>
            <a:xfrm>
              <a:off x="2376000" y="4155840"/>
              <a:ext cx="1321200" cy="819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1" name=""/>
            <p:cNvCxnSpPr>
              <a:stCxn id="877" idx="4"/>
            </p:cNvCxnSpPr>
            <p:nvPr/>
          </p:nvCxnSpPr>
          <p:spPr>
            <a:xfrm flipV="1">
              <a:off x="2376000" y="3346200"/>
              <a:ext cx="1321200" cy="2077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2" name=""/>
            <p:cNvCxnSpPr>
              <a:stCxn id="876" idx="4"/>
            </p:cNvCxnSpPr>
            <p:nvPr/>
          </p:nvCxnSpPr>
          <p:spPr>
            <a:xfrm flipV="1">
              <a:off x="2376000" y="3889080"/>
              <a:ext cx="1321200" cy="1800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3" name=""/>
            <p:cNvCxnSpPr>
              <a:stCxn id="875" idx="4"/>
            </p:cNvCxnSpPr>
            <p:nvPr/>
          </p:nvCxnSpPr>
          <p:spPr>
            <a:xfrm flipV="1">
              <a:off x="2376000" y="4431960"/>
              <a:ext cx="1321200" cy="1534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4" name=""/>
            <p:cNvCxnSpPr>
              <a:stCxn id="874" idx="4"/>
            </p:cNvCxnSpPr>
            <p:nvPr/>
          </p:nvCxnSpPr>
          <p:spPr>
            <a:xfrm flipV="1">
              <a:off x="2376000" y="4974480"/>
              <a:ext cx="1321200" cy="126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5" name=""/>
            <p:cNvCxnSpPr>
              <a:stCxn id="878" idx="4"/>
            </p:cNvCxnSpPr>
            <p:nvPr/>
          </p:nvCxnSpPr>
          <p:spPr>
            <a:xfrm>
              <a:off x="2376000" y="4431960"/>
              <a:ext cx="1321200" cy="109620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grpSp>
          <p:nvGrpSpPr>
            <p:cNvPr id="896" name=""/>
            <p:cNvGrpSpPr/>
            <p:nvPr/>
          </p:nvGrpSpPr>
          <p:grpSpPr>
            <a:xfrm>
              <a:off x="3697200" y="3105000"/>
              <a:ext cx="1218960" cy="3276360"/>
              <a:chOff x="3697200" y="3105000"/>
              <a:chExt cx="1218960" cy="3276360"/>
            </a:xfrm>
          </p:grpSpPr>
          <p:sp>
            <p:nvSpPr>
              <p:cNvPr id="897" name=""/>
              <p:cNvSpPr/>
              <p:nvPr/>
            </p:nvSpPr>
            <p:spPr>
              <a:xfrm>
                <a:off x="3697200" y="6000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97200" y="50097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697200" y="47336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97200" y="446688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697200" y="4190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97200" y="39146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697200" y="36478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97200" y="3371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697200" y="31050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4259160" y="5505120"/>
                <a:ext cx="75960" cy="381240"/>
                <a:chOff x="4259160" y="5505120"/>
                <a:chExt cx="75960" cy="3812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4259160" y="55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259160" y="5657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259160" y="5810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0" name=""/>
          <p:cNvGrpSpPr/>
          <p:nvPr/>
        </p:nvGrpSpPr>
        <p:grpSpPr>
          <a:xfrm>
            <a:off x="5219640" y="3033720"/>
            <a:ext cx="3657600" cy="3352680"/>
            <a:chOff x="5219640" y="3033720"/>
            <a:chExt cx="3657600" cy="3352680"/>
          </a:xfrm>
        </p:grpSpPr>
        <p:grpSp>
          <p:nvGrpSpPr>
            <p:cNvPr id="911" name=""/>
            <p:cNvGrpSpPr/>
            <p:nvPr/>
          </p:nvGrpSpPr>
          <p:grpSpPr>
            <a:xfrm>
              <a:off x="5219640" y="3109680"/>
              <a:ext cx="1218960" cy="3276360"/>
              <a:chOff x="5219640" y="3109680"/>
              <a:chExt cx="1218960" cy="3276360"/>
            </a:xfrm>
          </p:grpSpPr>
          <p:sp>
            <p:nvSpPr>
              <p:cNvPr id="912" name=""/>
              <p:cNvSpPr/>
              <p:nvPr/>
            </p:nvSpPr>
            <p:spPr>
              <a:xfrm>
                <a:off x="5219640" y="60051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219640" y="501444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19640" y="47383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19640" y="44715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19640" y="41954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219640" y="39193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19640" y="36525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19640" y="33764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219640" y="31096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5781600" y="5509800"/>
                <a:ext cx="75960" cy="381240"/>
                <a:chOff x="5781600" y="5509800"/>
                <a:chExt cx="75960" cy="3812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781600" y="5509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781600" y="56624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781600" y="58147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925" name=""/>
            <p:cNvCxnSpPr>
              <a:stCxn id="920" idx="4"/>
              <a:endCxn id="926" idx="2"/>
            </p:cNvCxnSpPr>
            <p:nvPr/>
          </p:nvCxnSpPr>
          <p:spPr>
            <a:xfrm>
              <a:off x="6336720" y="335088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27" name=""/>
            <p:cNvCxnSpPr>
              <a:stCxn id="919" idx="4"/>
              <a:endCxn id="928" idx="2"/>
            </p:cNvCxnSpPr>
            <p:nvPr/>
          </p:nvCxnSpPr>
          <p:spPr>
            <a:xfrm>
              <a:off x="6336720" y="3617280"/>
              <a:ext cx="1321200" cy="1458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29" name=""/>
            <p:cNvCxnSpPr>
              <a:stCxn id="918" idx="4"/>
              <a:endCxn id="926" idx="2"/>
            </p:cNvCxnSpPr>
            <p:nvPr/>
          </p:nvCxnSpPr>
          <p:spPr>
            <a:xfrm flipV="1">
              <a:off x="6336720" y="3350880"/>
              <a:ext cx="1321200" cy="543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0" name=""/>
            <p:cNvCxnSpPr>
              <a:stCxn id="917" idx="4"/>
              <a:endCxn id="928" idx="2"/>
            </p:cNvCxnSpPr>
            <p:nvPr/>
          </p:nvCxnSpPr>
          <p:spPr>
            <a:xfrm>
              <a:off x="6336720" y="4160880"/>
              <a:ext cx="1321200" cy="915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1" name=""/>
            <p:cNvCxnSpPr>
              <a:stCxn id="916" idx="4"/>
              <a:endCxn id="926" idx="2"/>
            </p:cNvCxnSpPr>
            <p:nvPr/>
          </p:nvCxnSpPr>
          <p:spPr>
            <a:xfrm flipV="1">
              <a:off x="6336720" y="3350880"/>
              <a:ext cx="1321200" cy="1086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2" name=""/>
            <p:cNvCxnSpPr>
              <a:stCxn id="915" idx="4"/>
              <a:endCxn id="928" idx="2"/>
            </p:cNvCxnSpPr>
            <p:nvPr/>
          </p:nvCxnSpPr>
          <p:spPr>
            <a:xfrm>
              <a:off x="6336720" y="4713120"/>
              <a:ext cx="1321200" cy="362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3" name=""/>
            <p:cNvCxnSpPr>
              <a:stCxn id="914" idx="4"/>
              <a:endCxn id="926" idx="2"/>
            </p:cNvCxnSpPr>
            <p:nvPr/>
          </p:nvCxnSpPr>
          <p:spPr>
            <a:xfrm flipV="1">
              <a:off x="6336720" y="3350880"/>
              <a:ext cx="1321200" cy="162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4" name=""/>
            <p:cNvCxnSpPr>
              <a:stCxn id="913" idx="4"/>
              <a:endCxn id="928" idx="2"/>
            </p:cNvCxnSpPr>
            <p:nvPr/>
          </p:nvCxnSpPr>
          <p:spPr>
            <a:xfrm flipV="1">
              <a:off x="6336720" y="5074920"/>
              <a:ext cx="1321200" cy="181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5" name=""/>
            <p:cNvCxnSpPr>
              <a:stCxn id="912" idx="4"/>
              <a:endCxn id="928" idx="2"/>
            </p:cNvCxnSpPr>
            <p:nvPr/>
          </p:nvCxnSpPr>
          <p:spPr>
            <a:xfrm flipV="1">
              <a:off x="6336720" y="5074920"/>
              <a:ext cx="1321200" cy="117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grpSp>
          <p:nvGrpSpPr>
            <p:cNvPr id="936" name=""/>
            <p:cNvGrpSpPr/>
            <p:nvPr/>
          </p:nvGrpSpPr>
          <p:grpSpPr>
            <a:xfrm>
              <a:off x="7657920" y="3109680"/>
              <a:ext cx="1219320" cy="3276720"/>
              <a:chOff x="7657920" y="3109680"/>
              <a:chExt cx="1219320" cy="3276720"/>
            </a:xfrm>
          </p:grpSpPr>
          <p:sp>
            <p:nvSpPr>
              <p:cNvPr id="937" name=""/>
              <p:cNvSpPr/>
              <p:nvPr/>
            </p:nvSpPr>
            <p:spPr>
              <a:xfrm>
                <a:off x="7657920" y="5091120"/>
                <a:ext cx="121932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657920" y="483372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57920" y="6005520"/>
                <a:ext cx="121932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57920" y="4557600"/>
                <a:ext cx="121932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57920" y="365256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57920" y="337644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657920" y="310968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8219880" y="5548320"/>
                <a:ext cx="76320" cy="380520"/>
                <a:chOff x="8219880" y="5548320"/>
                <a:chExt cx="76320" cy="3805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8219880" y="5548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8219880" y="57006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219880" y="5852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8219880" y="4100400"/>
                <a:ext cx="76320" cy="380520"/>
                <a:chOff x="8219880" y="4100400"/>
                <a:chExt cx="76320" cy="38052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8219880" y="4100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219880" y="42526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219880" y="4404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0" name=""/>
            <p:cNvSpPr/>
            <p:nvPr/>
          </p:nvSpPr>
          <p:spPr>
            <a:xfrm>
              <a:off x="7202520" y="30337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8840" y="5243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GeForce 8800 SM has 64 KB of Constant Cach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 are stored in DRAM and cached on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nstant value can be broadcast to all threads in a War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391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efficient way of accessing a value that is common for all threads in a B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391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es in a Block to different addresses are serial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Force 8800 SMs have also a Texture Cach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s are stored in DRAM and cached on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hardware speeds up reads from the texture memory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hardware implements the various addressing modes and data filtering suitable to this graphics data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Force 8800 has 6 64-bit memory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6.4 GB/s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is limits code that does a single operation in DRAM data to 21.6 GFlop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et closer to the peak 346.5 GFlop/s you have to access data more then once and take advantage of the memory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2, Texture Cache, Constant Cache, Shared Memory, and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5003640" y="2889360"/>
            <a:ext cx="505080" cy="1152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040360" y="3068640"/>
            <a:ext cx="21600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341360"/>
            <a:ext cx="78692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, CUDA GPUs possess arrays of hundreds of processors and peak performance approaching 1 Tflo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79640" y="2708280"/>
            <a:ext cx="789444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st accesses the device memory via PCI Express b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ndwidth of PCI Express is ~8 GB/s (~2 GWord/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if go through your data only once, you actually can have only ~2 Gflop/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4602240" y="1528560"/>
            <a:ext cx="4536360" cy="5040360"/>
            <a:chOff x="4602240" y="1528560"/>
            <a:chExt cx="4536360" cy="5040360"/>
          </a:xfrm>
        </p:grpSpPr>
        <p:sp>
          <p:nvSpPr>
            <p:cNvPr id="967" name=""/>
            <p:cNvSpPr/>
            <p:nvPr/>
          </p:nvSpPr>
          <p:spPr>
            <a:xfrm>
              <a:off x="5432400" y="1528560"/>
              <a:ext cx="3706200" cy="5035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Gr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3160" y="5519520"/>
              <a:ext cx="3604680" cy="42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Con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3160" y="605772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ex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3160" y="497340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Glob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136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0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30680" y="2531880"/>
              <a:ext cx="168228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3068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52132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21320" y="3035160"/>
              <a:ext cx="62172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624024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583236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5794200" y="4052520"/>
              <a:ext cx="144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1964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1188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215040" y="4052880"/>
              <a:ext cx="108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400800" y="4278240"/>
              <a:ext cx="52812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9288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9288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11036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70392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666432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99120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18164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8480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31808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1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65960" y="2531880"/>
              <a:ext cx="168372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36596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58040" y="3560760"/>
              <a:ext cx="82044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5804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807552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66908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62948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95636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14680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4996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23752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22960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22960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894708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853920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850104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82792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01836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92152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02240" y="4968720"/>
              <a:ext cx="563400" cy="160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H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65640" y="518148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65640" y="572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165640" y="626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.H. (Software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hread c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Threa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Register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Threa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Local Memor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not 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Block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Shared Memor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Gri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Global Memor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not 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 only per-Gri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Constant Memor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(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 only per-Gri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Texture Memory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st can read/write Global, Constant, and Texture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4602240" y="1528560"/>
            <a:ext cx="4536360" cy="5040360"/>
            <a:chOff x="4602240" y="1528560"/>
            <a:chExt cx="4536360" cy="5040360"/>
          </a:xfrm>
        </p:grpSpPr>
        <p:sp>
          <p:nvSpPr>
            <p:cNvPr id="1018" name=""/>
            <p:cNvSpPr/>
            <p:nvPr/>
          </p:nvSpPr>
          <p:spPr>
            <a:xfrm>
              <a:off x="5432400" y="1528560"/>
              <a:ext cx="3706200" cy="5035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Gr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83160" y="5519520"/>
              <a:ext cx="3604680" cy="42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Con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83160" y="605772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ex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83160" y="497340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Glob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8136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0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530680" y="2531880"/>
              <a:ext cx="168228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53068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2132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521320" y="3035160"/>
              <a:ext cx="62172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624024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83236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5794200" y="4052520"/>
              <a:ext cx="144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11964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1188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215040" y="4052880"/>
              <a:ext cx="108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400800" y="4278240"/>
              <a:ext cx="52812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9288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39288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711036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70392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666432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99120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8164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08480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31808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1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365960" y="2531880"/>
              <a:ext cx="168372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36596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58040" y="3560760"/>
              <a:ext cx="82044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35804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807552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766908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62948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95636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14680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04996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23752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22960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22960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894708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853920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850104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82792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01836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92152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02240" y="4968720"/>
              <a:ext cx="563400" cy="160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H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65640" y="518148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65640" y="572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165640" y="626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"/>
          <p:cNvGrpSpPr/>
          <p:nvPr/>
        </p:nvGrpSpPr>
        <p:grpSpPr>
          <a:xfrm>
            <a:off x="971640" y="4311720"/>
            <a:ext cx="8337600" cy="2357280"/>
            <a:chOff x="971640" y="4311720"/>
            <a:chExt cx="8337600" cy="2357280"/>
          </a:xfrm>
        </p:grpSpPr>
        <p:sp>
          <p:nvSpPr>
            <p:cNvPr id="1067" name=""/>
            <p:cNvSpPr/>
            <p:nvPr/>
          </p:nvSpPr>
          <p:spPr>
            <a:xfrm>
              <a:off x="1135440" y="4311720"/>
              <a:ext cx="9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rid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971640" y="4624200"/>
              <a:ext cx="3927240" cy="835200"/>
              <a:chOff x="971640" y="4624200"/>
              <a:chExt cx="3927240" cy="835200"/>
            </a:xfrm>
          </p:grpSpPr>
          <p:sp>
            <p:nvSpPr>
              <p:cNvPr id="1069" name=""/>
              <p:cNvSpPr/>
              <p:nvPr/>
            </p:nvSpPr>
            <p:spPr>
              <a:xfrm>
                <a:off x="971640" y="4624200"/>
                <a:ext cx="3927240" cy="8352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533760" y="4944240"/>
                <a:ext cx="50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1" name=""/>
              <p:cNvGrpSpPr/>
              <p:nvPr/>
            </p:nvGrpSpPr>
            <p:grpSpPr>
              <a:xfrm>
                <a:off x="1058760" y="4691880"/>
                <a:ext cx="777960" cy="700920"/>
                <a:chOff x="1058760" y="4691880"/>
                <a:chExt cx="777960" cy="70092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1058760" y="4691880"/>
                  <a:ext cx="7779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1135440" y="4777920"/>
                  <a:ext cx="623520" cy="529560"/>
                  <a:chOff x="1135440" y="4777920"/>
                  <a:chExt cx="623520" cy="52956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>
                    <a:off x="113544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11901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12405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29168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13420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39320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14436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14943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15447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1595880" y="4777920"/>
                    <a:ext cx="1119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16462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5" name=""/>
              <p:cNvGrpSpPr/>
              <p:nvPr/>
            </p:nvGrpSpPr>
            <p:grpSpPr>
              <a:xfrm>
                <a:off x="1906560" y="4691880"/>
                <a:ext cx="777960" cy="700920"/>
                <a:chOff x="1906560" y="4691880"/>
                <a:chExt cx="777960" cy="70092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1906560" y="4691880"/>
                  <a:ext cx="7779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7" name=""/>
                <p:cNvGrpSpPr/>
                <p:nvPr/>
              </p:nvGrpSpPr>
              <p:grpSpPr>
                <a:xfrm>
                  <a:off x="1983240" y="4777920"/>
                  <a:ext cx="623520" cy="529560"/>
                  <a:chOff x="1983240" y="4777920"/>
                  <a:chExt cx="623520" cy="52956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198324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0379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0883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13948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1898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24100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2914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3421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3925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443680" y="4777920"/>
                    <a:ext cx="1119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4940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"/>
              <p:cNvGrpSpPr/>
              <p:nvPr/>
            </p:nvGrpSpPr>
            <p:grpSpPr>
              <a:xfrm>
                <a:off x="4033800" y="4691880"/>
                <a:ext cx="777960" cy="700920"/>
                <a:chOff x="4033800" y="4691880"/>
                <a:chExt cx="777960" cy="70092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4033800" y="4691880"/>
                  <a:ext cx="7779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"/>
                <p:cNvGrpSpPr/>
                <p:nvPr/>
              </p:nvGrpSpPr>
              <p:grpSpPr>
                <a:xfrm>
                  <a:off x="4110480" y="4777920"/>
                  <a:ext cx="623520" cy="529560"/>
                  <a:chOff x="4110480" y="4777920"/>
                  <a:chExt cx="623520" cy="52956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>
                    <a:off x="411048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16520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21560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26672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31712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36824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41864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4694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5198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570920" y="4777920"/>
                    <a:ext cx="1119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62132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3" name=""/>
              <p:cNvGrpSpPr/>
              <p:nvPr/>
            </p:nvGrpSpPr>
            <p:grpSpPr>
              <a:xfrm>
                <a:off x="2757600" y="4691880"/>
                <a:ext cx="776160" cy="700920"/>
                <a:chOff x="2757600" y="4691880"/>
                <a:chExt cx="776160" cy="700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2757600" y="4691880"/>
                  <a:ext cx="7761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5" name=""/>
                <p:cNvGrpSpPr/>
                <p:nvPr/>
              </p:nvGrpSpPr>
              <p:grpSpPr>
                <a:xfrm>
                  <a:off x="2834280" y="4777920"/>
                  <a:ext cx="622080" cy="529560"/>
                  <a:chOff x="2834280" y="4777920"/>
                  <a:chExt cx="622080" cy="52956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>
                    <a:off x="283428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88900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93904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99016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040560" y="4777920"/>
                    <a:ext cx="1123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091320" y="4777920"/>
                    <a:ext cx="1123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14172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1924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32428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293640" y="4777920"/>
                    <a:ext cx="1116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344040" y="4777920"/>
                    <a:ext cx="1123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27" name=""/>
            <p:cNvSpPr/>
            <p:nvPr/>
          </p:nvSpPr>
          <p:spPr>
            <a:xfrm>
              <a:off x="5540760" y="4591080"/>
              <a:ext cx="1676160" cy="2077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ob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Global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tant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d Textu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1000440" y="5829120"/>
              <a:ext cx="3927240" cy="833400"/>
              <a:chOff x="1000440" y="5829120"/>
              <a:chExt cx="3927240" cy="833400"/>
            </a:xfrm>
          </p:grpSpPr>
          <p:sp>
            <p:nvSpPr>
              <p:cNvPr id="1129" name=""/>
              <p:cNvSpPr/>
              <p:nvPr/>
            </p:nvSpPr>
            <p:spPr>
              <a:xfrm>
                <a:off x="1000440" y="5829120"/>
                <a:ext cx="3927240" cy="8334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562920" y="614988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1087560" y="5896800"/>
                <a:ext cx="777960" cy="699480"/>
                <a:chOff x="1087560" y="5896800"/>
                <a:chExt cx="777960" cy="69948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1087560" y="5896800"/>
                  <a:ext cx="7779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3" name=""/>
                <p:cNvGrpSpPr/>
                <p:nvPr/>
              </p:nvGrpSpPr>
              <p:grpSpPr>
                <a:xfrm>
                  <a:off x="1164240" y="5982480"/>
                  <a:ext cx="623520" cy="528480"/>
                  <a:chOff x="1164240" y="5982480"/>
                  <a:chExt cx="623520" cy="52848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116424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12189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12693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132048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13708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142200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14724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5231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15735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624680" y="5982480"/>
                    <a:ext cx="111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16750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5" name=""/>
              <p:cNvGrpSpPr/>
              <p:nvPr/>
            </p:nvGrpSpPr>
            <p:grpSpPr>
              <a:xfrm>
                <a:off x="1935360" y="5896800"/>
                <a:ext cx="777960" cy="699480"/>
                <a:chOff x="1935360" y="5896800"/>
                <a:chExt cx="777960" cy="69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935360" y="5896800"/>
                  <a:ext cx="7779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7" name=""/>
                <p:cNvGrpSpPr/>
                <p:nvPr/>
              </p:nvGrpSpPr>
              <p:grpSpPr>
                <a:xfrm>
                  <a:off x="2012040" y="5982480"/>
                  <a:ext cx="623520" cy="528480"/>
                  <a:chOff x="2012040" y="5982480"/>
                  <a:chExt cx="623520" cy="5284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201204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0667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1171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16828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2186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26980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3202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3709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4213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472480" y="5982480"/>
                    <a:ext cx="111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5228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9" name=""/>
              <p:cNvGrpSpPr/>
              <p:nvPr/>
            </p:nvGrpSpPr>
            <p:grpSpPr>
              <a:xfrm>
                <a:off x="4062600" y="5896800"/>
                <a:ext cx="777960" cy="699480"/>
                <a:chOff x="4062600" y="5896800"/>
                <a:chExt cx="777960" cy="69948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4062600" y="5896800"/>
                  <a:ext cx="7779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1" name=""/>
                <p:cNvGrpSpPr/>
                <p:nvPr/>
              </p:nvGrpSpPr>
              <p:grpSpPr>
                <a:xfrm>
                  <a:off x="4139280" y="5982480"/>
                  <a:ext cx="623520" cy="528480"/>
                  <a:chOff x="4139280" y="5982480"/>
                  <a:chExt cx="623520" cy="52848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413928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419400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24440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429552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34592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39704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444744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44982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5486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4599720" y="5982480"/>
                    <a:ext cx="111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465012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3" name=""/>
              <p:cNvGrpSpPr/>
              <p:nvPr/>
            </p:nvGrpSpPr>
            <p:grpSpPr>
              <a:xfrm>
                <a:off x="2786400" y="5896800"/>
                <a:ext cx="776160" cy="699480"/>
                <a:chOff x="2786400" y="5896800"/>
                <a:chExt cx="776160" cy="69948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2786400" y="5896800"/>
                  <a:ext cx="7761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5" name=""/>
                <p:cNvGrpSpPr/>
                <p:nvPr/>
              </p:nvGrpSpPr>
              <p:grpSpPr>
                <a:xfrm>
                  <a:off x="2863080" y="5982480"/>
                  <a:ext cx="622080" cy="528480"/>
                  <a:chOff x="2863080" y="5982480"/>
                  <a:chExt cx="622080" cy="52848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>
                    <a:off x="286308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91780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96784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01896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069360" y="5982480"/>
                    <a:ext cx="11232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120120" y="5982480"/>
                    <a:ext cx="11232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317052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32212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32716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3322440" y="5982480"/>
                    <a:ext cx="1116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3372840" y="5982480"/>
                    <a:ext cx="11232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87" name=""/>
            <p:cNvSpPr/>
            <p:nvPr/>
          </p:nvSpPr>
          <p:spPr>
            <a:xfrm>
              <a:off x="1135440" y="5533920"/>
              <a:ext cx="9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rid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46760" y="5037120"/>
              <a:ext cx="5857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46760" y="6246720"/>
              <a:ext cx="5857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85120" y="4619520"/>
              <a:ext cx="0" cy="2038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601040" y="5310000"/>
              <a:ext cx="170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equ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r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in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971640" y="1268280"/>
            <a:ext cx="3162240" cy="2710800"/>
            <a:chOff x="971640" y="1268280"/>
            <a:chExt cx="3162240" cy="2710800"/>
          </a:xfrm>
        </p:grpSpPr>
        <p:grpSp>
          <p:nvGrpSpPr>
            <p:cNvPr id="1193" name=""/>
            <p:cNvGrpSpPr/>
            <p:nvPr/>
          </p:nvGrpSpPr>
          <p:grpSpPr>
            <a:xfrm>
              <a:off x="1031760" y="1268280"/>
              <a:ext cx="3025800" cy="1157400"/>
              <a:chOff x="1031760" y="1268280"/>
              <a:chExt cx="3025800" cy="1157400"/>
            </a:xfrm>
          </p:grpSpPr>
          <p:grpSp>
            <p:nvGrpSpPr>
              <p:cNvPr id="1194" name=""/>
              <p:cNvGrpSpPr/>
              <p:nvPr/>
            </p:nvGrpSpPr>
            <p:grpSpPr>
              <a:xfrm>
                <a:off x="1031760" y="1268280"/>
                <a:ext cx="942840" cy="1157400"/>
                <a:chOff x="1031760" y="1268280"/>
                <a:chExt cx="942840" cy="115740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1438200" y="1592280"/>
                  <a:ext cx="128520" cy="8334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031760" y="1268280"/>
                  <a:ext cx="942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Threa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7" name=""/>
              <p:cNvSpPr/>
              <p:nvPr/>
            </p:nvSpPr>
            <p:spPr>
              <a:xfrm>
                <a:off x="2122560" y="1820880"/>
                <a:ext cx="1935000" cy="420480"/>
              </a:xfrm>
              <a:prstGeom prst="rect">
                <a:avLst/>
              </a:prstGeom>
              <a:solidFill>
                <a:srgbClr val="00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ocal Mem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540080" y="2030400"/>
                <a:ext cx="5857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971640" y="2536560"/>
              <a:ext cx="3162240" cy="1442520"/>
              <a:chOff x="971640" y="2536560"/>
              <a:chExt cx="3162240" cy="14425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971640" y="2536560"/>
                <a:ext cx="1092240" cy="1442520"/>
                <a:chOff x="971640" y="2536560"/>
                <a:chExt cx="1092240" cy="1442520"/>
              </a:xfrm>
            </p:grpSpPr>
            <p:grpSp>
              <p:nvGrpSpPr>
                <p:cNvPr id="1201" name=""/>
                <p:cNvGrpSpPr/>
                <p:nvPr/>
              </p:nvGrpSpPr>
              <p:grpSpPr>
                <a:xfrm>
                  <a:off x="971640" y="2868120"/>
                  <a:ext cx="1092240" cy="1110960"/>
                  <a:chOff x="971640" y="2868120"/>
                  <a:chExt cx="1092240" cy="1110960"/>
                </a:xfrm>
              </p:grpSpPr>
              <p:sp>
                <p:nvSpPr>
                  <p:cNvPr id="1202" name=""/>
                  <p:cNvSpPr/>
                  <p:nvPr/>
                </p:nvSpPr>
                <p:spPr>
                  <a:xfrm>
                    <a:off x="971640" y="2868120"/>
                    <a:ext cx="1092240" cy="1110960"/>
                  </a:xfrm>
                  <a:prstGeom prst="rect">
                    <a:avLst/>
                  </a:prstGeom>
                  <a:noFill/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85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03" name=""/>
                  <p:cNvGrpSpPr/>
                  <p:nvPr/>
                </p:nvGrpSpPr>
                <p:grpSpPr>
                  <a:xfrm>
                    <a:off x="1079640" y="3004560"/>
                    <a:ext cx="875880" cy="839520"/>
                    <a:chOff x="1079640" y="3004560"/>
                    <a:chExt cx="875880" cy="839520"/>
                  </a:xfrm>
                </p:grpSpPr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107964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>
                      <a:off x="115668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122724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129924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1369800" y="3004560"/>
                      <a:ext cx="15840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1441800" y="3004560"/>
                      <a:ext cx="15840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1512360" y="3004560"/>
                      <a:ext cx="15876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1584000" y="3004560"/>
                      <a:ext cx="15876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1654560" y="3004560"/>
                      <a:ext cx="15876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1726560" y="3004560"/>
                      <a:ext cx="15732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1797120" y="3004560"/>
                      <a:ext cx="15840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15" name=""/>
                <p:cNvSpPr/>
                <p:nvPr/>
              </p:nvSpPr>
              <p:spPr>
                <a:xfrm>
                  <a:off x="1116360" y="2536560"/>
                  <a:ext cx="802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Bloc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6" name=""/>
              <p:cNvSpPr/>
              <p:nvPr/>
            </p:nvSpPr>
            <p:spPr>
              <a:xfrm>
                <a:off x="2668680" y="3043080"/>
                <a:ext cx="1465200" cy="762120"/>
              </a:xfrm>
              <a:prstGeom prst="rect">
                <a:avLst/>
              </a:prstGeom>
              <a:solidFill>
                <a:srgbClr val="00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har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7" name=""/>
              <p:cNvGrpSpPr/>
              <p:nvPr/>
            </p:nvGrpSpPr>
            <p:grpSpPr>
              <a:xfrm>
                <a:off x="2068560" y="3122640"/>
                <a:ext cx="585720" cy="603000"/>
                <a:chOff x="2068560" y="3122640"/>
                <a:chExt cx="585720" cy="60300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068560" y="342396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068560" y="33224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068560" y="322236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068560" y="35240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068560" y="362412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068560" y="31226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068560" y="37256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4361040" y="1396800"/>
            <a:ext cx="4782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Memory:    per-Thr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per 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Memory: per-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by Threads of the same Blo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-Thread commun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emory:   per-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by all Thr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-Grid commun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sta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 your CUDA enabled bo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 the CUDA Toolk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 the CUDA SD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some environment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DK comes with several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6372360" y="4581360"/>
            <a:ext cx="2496960" cy="155448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6947640" y="6165720"/>
            <a:ext cx="1851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Force 8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Type Qualifi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device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device__ qualifier declares a function that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d on the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able from the device on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global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global__ qualifier declares a function as being a kernel. Such a function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d on the device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able from the host on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2"/>
          <a:stretch/>
        </p:blipFill>
        <p:spPr>
          <a:xfrm>
            <a:off x="4875120" y="1413000"/>
            <a:ext cx="4197600" cy="504036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4356000" y="4365720"/>
            <a:ext cx="54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243480" y="6345360"/>
            <a:ext cx="1295640" cy="287280"/>
            <a:chOff x="6243480" y="6345360"/>
            <a:chExt cx="1295640" cy="287280"/>
          </a:xfrm>
        </p:grpSpPr>
        <p:sp>
          <p:nvSpPr>
            <p:cNvPr id="1237" name=""/>
            <p:cNvSpPr/>
            <p:nvPr/>
          </p:nvSpPr>
          <p:spPr>
            <a:xfrm flipV="1">
              <a:off x="6243480" y="634536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7539120" y="634536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31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 Type Qualifiers are added before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__global__ functions are always called with a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__device__ functions are called by __global__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do not support recu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cannot declare static variables inside their bo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cannot have a variable number of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cannot have their address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must have void return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ll 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synchron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parameters are currently passed via shared memory to the device and are limited to 256 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Type Qualif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device__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s a variable that resides on the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s in global memory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lifetime of an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cessible from all the threads within the grid and from the 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constant__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s a variable th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s in constant memory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lifetime of an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cessible from all the threads within the grid and from the 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shared__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s a variable th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s in shared memory space of a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lifetime of a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nly accessible from all threads within a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qualifiers are not allowed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, or on function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shared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constant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have implied static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shared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constant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cannot be defined as external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constant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cannot be assigned to from the device, only from the ho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shared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cannot have an initialization as part of their decl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tomatic variable, declared in device code without any of these qualifiers, generally resides in a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79640" y="1341360"/>
            <a:ext cx="79056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19680" indent="-3196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all this performance comes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9480" indent="-2653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ransistors are devoted to data processing rather than data caching and ILP exploitat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uter gamming industry provides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on fuels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6000" y="3608280"/>
            <a:ext cx="770400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t-in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dD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dimensions of the gr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Id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block index within the gr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D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dimensions of the b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Id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thread index within the b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p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warp size in thre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allowed to take the address of any of the built-in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allowed to assign values to any of the built-in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un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daGetDevicePropertie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device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syncthread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ordinate communication between the threads of a same b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cAdd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d other atomic functions perform a read-modify-write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emAlloc(), cuMemFree(), cuMemcpy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d other memory functions allows allocating, freeing and copying memory to/from the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7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76597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2"/>
          <a:stretch/>
        </p:blipFill>
        <p:spPr>
          <a:xfrm>
            <a:off x="1187280" y="1808280"/>
            <a:ext cx="77266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s, early `90s: a golden age for parallel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ularly data-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 Machine, Cray X-MP/Y-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supercomputers: exotic, powerful,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, languages, &amp; programming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d a wide variety of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ous parallel algorithmic models develop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-RAM, V-RAM, hypercube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…impact of data-parallel computing limi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 Machines sold 7 CM-1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and research activity largely subs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vely-parallel machines replaced by clu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ver-more powerful commodity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owulf, Legion, grid computing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 the era of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vely parallel computing loses momentum to inexorable advance of commod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U Computing with CUDA brings data-parallel computing to the m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500 GFLOPS “developer kit” costs $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-parallel supercomputers are everyw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DA makes it even more acce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computing is now a commodity 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s no longer get faster, just wi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eople (outside this room) have not gotten this me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re-think your algorithms to be aggressively parall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just a good idea – the only way to gai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: if its not fast enough now, it never will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-parallel computing offers the most scalable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U computing with CUDA provides a scalable data-parallel platform in a familiar environment -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100 million CUDA enabled GPUs have already been s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it the most successful high performance parallel computing platform in computing history and, perhaps, one of the most disruptive computing technologies of this dec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relevant programs have been ported to C+CUDA and run orders of magnitude faster in CUDA enabled GPUs than in multi-core CP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References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da Zone, www.nvidia.com/cud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. Asanovic, R. Bodik, B. C. Catanzaro, J. J. Gebis, P. Husbands, K. Keutzer, D. A. Patterson, W. L. Plishker, J. Shalf, S. W. Williams, K. A. Yelick, “The Landscape of Parallel Computing Research: A View from Berkeley”, Technical Report No. UCB/EECS-2006-183, Department of Electrical Engineering and Computer Sciences, University of California at Berkeley, 2006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. Farber, “CUDA, Supercomputing for the Masses: Part 1-9”, Dr. Dobb’s, 2008, Avaliable at www.ddj.com/architect/20720065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. S. T. Fernandes, V. C. Barbosa, F. Ramos, “Instruction Usage and the Memory Gap Problem”, Proceedings of the 14th SBC/IEEE Symposium on Computer Architecture and High Performance Computing, Los Alamitos - CA - USA: IEEE Computer Society, pp. 169-175, 2002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L. Hennessy, D. A. Patterson, “Computer Architecture: A Quantitative Approach, Fourth Edition”, Morgan Kaufmann Publishers, Inc., 2006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. J. Irwin, J. P. Shen, “Revitalizing Computer Architecture Research”, Third in a Series of CRA Conferences on Grand Research Challenges in Computer Science and Engineering, December 4-7, 2005, Computing Research Association (CRA), 2007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. Kongetira, K. Aingaran, K. Olukotun, “Niagara: A 32-Way Multithreaded Sparc Processor”, IEEE Micro, Vol. 25, No. 2, pp. 21-29, 2005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. Lindholm, J. Nickolls, S. Oberman, J. Montrym, “NVIDIA TESLA: A Unified Graphics and Computing Architecture”, IEEEMicro, March-April, 2008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 Luebke, M. Harris, J. Krüger, T. Purcell, N. Govindaraju, I. Buck, C. Woolley, A. Lefohn, “GPGPU: general purpose computation on graphics hardware”, International Conference on Computer Graphics and Interactive Techniques, ACM SIGGRAPH 2004, Course Notes, 2004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 Luebke, “GPU Computing: The Democratization of Parallel Computing”, 13th International Conference on Architectural Support for Programming Languages and Operating Systems (ASPLOS’08), Course Notes, 2008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. E. Moore, “Cramming more components onto integrated circuits”, Electronics, Vol. 38, No. 8, pp. 114-117, 1965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Nickolls, I. Buck, M. Garland, K. Skadron, “Scalable Parallel Programming with CUDA”, ACM Queue, Vol. 6, No. 2, pp. 4-53, March/April 2008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VIDIA, “NVIDIA CUDA Programming Guide 2.0”, NVIDIA, 2008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. A. Wulf, S. A. McKee, “Hitting the Memory Wall: Implications of the Obvious”, Computer Architecture News, vol. 23, no. 1, Mar. 1995, pp. 20–24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8091360" cy="4575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6093000"/>
            <a:ext cx="7128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nvidia.com/object/cuda_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8064360" cy="4559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47640" y="6093000"/>
            <a:ext cx="7128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nvidia.com/object/cuda_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Líbio</dc:creator>
  <dc:description/>
  <dc:language>en-US</dc:language>
  <cp:lastModifiedBy>-</cp:lastModifiedBy>
  <dcterms:modified xsi:type="dcterms:W3CDTF">2008-12-17T16:50:15Z</dcterms:modified>
  <cp:revision>61</cp:revision>
  <dc:subject/>
  <dc:title>UMA ARQUITETURA DTSVLIW COM MÚLTIPLOS CONTEXTOS DE HARDWARE: UMA ANÁLISE PRELIMINAR</dc:title>
</cp:coreProperties>
</file>